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97E8-D241-42C2-A785-B77B4049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425D-78B0-4304-98E1-FDFD8C30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7744-451F-4628-83F0-E1C967E2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D4D-BBC0-4BC8-8035-24267323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7B25-94FB-443E-89F9-933C5639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E0C9-75A9-4CE1-B4C1-11613CB2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5A63-A694-45AE-B75F-D90A2B2C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8FF-4260-478E-8FB0-D60B7AE7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E9E1-A6E5-4898-B36E-0E8BF686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1924-4480-4FBE-A531-BD9F531E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B1C-25D8-4BA0-997E-E771325F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0AF-6E68-43F5-BEDF-5B74886D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6F9E-4A05-4906-A517-215D8EF83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isestate.edu/socwork/392/CSB/The%20Triangle%20Shirtwaist%20Fire.p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Strike fight"/>
          <p:cNvPicPr/>
          <p:nvPr/>
        </p:nvPicPr>
        <p:blipFill>
          <a:blip r:embed="rId1"/>
          <a:stretch/>
        </p:blipFill>
        <p:spPr>
          <a:xfrm>
            <a:off x="2286000" y="1752480"/>
            <a:ext cx="6553080" cy="3687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ikers and Federal tr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5051160" cy="64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ve Barg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otiating between workers and emplo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angle Shirtwaist Factory F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0" y="177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Click this photo&#13;&#10;of the shop floor to view present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1905120"/>
            <a:ext cx="57150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6278400" cy="411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Triangle Shirtwaist Company"/>
          <p:cNvPicPr/>
          <p:nvPr/>
        </p:nvPicPr>
        <p:blipFill>
          <a:blip r:embed="rId1"/>
          <a:stretch/>
        </p:blipFill>
        <p:spPr>
          <a:xfrm>
            <a:off x="2590920" y="1447920"/>
            <a:ext cx="5783040" cy="38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Photograph:Next of kin attempt to identify victims of the Triangle Shirtwaist Company fire, New York City, 1911."/>
          <p:cNvPicPr/>
          <p:nvPr/>
        </p:nvPicPr>
        <p:blipFill>
          <a:blip r:embed="rId1"/>
          <a:stretch/>
        </p:blipFill>
        <p:spPr>
          <a:xfrm>
            <a:off x="2362320" y="1143000"/>
            <a:ext cx="6518160" cy="41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come of inci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5 d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wner acqu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 laws changed for women and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ct fir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0"/>
            <a:ext cx="46242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07880"/>
            <a:ext cx="9144000" cy="6042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10-04T22:43:19Z</dcterms:modified>
  <cp:revision>1</cp:revision>
  <dc:subject/>
  <dc:title>PowerPoint Presentation</dc:title>
</cp:coreProperties>
</file>