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ED01-7520-40DB-97A2-99AE23D3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EAA-7C02-4E86-8774-402ED5EB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4F9-677C-4D3A-ACF2-681ABD5E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EA8F-C880-42B9-80D9-2D6874C5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982-903F-4316-BA88-96E1AC41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E51-1662-441D-BDDC-9C5CA826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198-850A-4414-84D4-91AB6916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3FD-7957-4E59-B9AE-E69B5341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464-EA5F-479A-9412-828DAB1D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352-18FC-4E89-8942-F39C2443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66E-C133-46EB-9AB6-785EF496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A45-8EA6-4685-91DD-6A415FB8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3E5E-D1B8-4894-8BD0-3AFB10D77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isestate.edu/socwork/392/CSB/The%20Triangle%20Shirtwaist%20Fire.p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Strike fight"/>
          <p:cNvPicPr/>
          <p:nvPr/>
        </p:nvPicPr>
        <p:blipFill>
          <a:blip r:embed="rId1"/>
          <a:stretch/>
        </p:blipFill>
        <p:spPr>
          <a:xfrm>
            <a:off x="2286000" y="1752480"/>
            <a:ext cx="6553080" cy="368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kers and Federal tr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5051160" cy="64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ve Barg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tiating between workers and emplo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ngle Shirtwaist Factory F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0" y="17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Click this photo&#13;&#10;of the shop floor to view present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905120"/>
            <a:ext cx="57150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6278400" cy="41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Triangle Shirtwaist Company"/>
          <p:cNvPicPr/>
          <p:nvPr/>
        </p:nvPicPr>
        <p:blipFill>
          <a:blip r:embed="rId1"/>
          <a:stretch/>
        </p:blipFill>
        <p:spPr>
          <a:xfrm>
            <a:off x="2590920" y="1447920"/>
            <a:ext cx="5783040" cy="38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Photograph:Next of kin attempt to identify victims of the Triangle Shirtwaist Company fire, New York City, 1911."/>
          <p:cNvPicPr/>
          <p:nvPr/>
        </p:nvPicPr>
        <p:blipFill>
          <a:blip r:embed="rId1"/>
          <a:stretch/>
        </p:blipFill>
        <p:spPr>
          <a:xfrm>
            <a:off x="2362320" y="1143000"/>
            <a:ext cx="6518160" cy="41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come of inci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5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wner acqu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 laws changed for women and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 fir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0"/>
            <a:ext cx="4624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07880"/>
            <a:ext cx="9144000" cy="6042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10-04T22:43:19Z</dcterms:modified>
  <cp:revision>1</cp:revision>
  <dc:subject/>
  <dc:title>PowerPoint Presentation</dc:title>
</cp:coreProperties>
</file>