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98C-9A2A-4336-B106-4D8B32E6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045B-B66A-41D8-92CB-FB7DE179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9355-E6C9-48F0-AE80-2D43B617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A7E-A309-49F0-BAE2-A4A2352A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4FF-3651-476D-B323-B8ADEA0D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DBC-3EBB-4CEB-AB3E-D9B10637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666-6B3C-44BA-AA3A-DCA02321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97F-5703-4DC6-B31D-A7C46D27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281-7303-48EE-BAF9-112A2C52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5AA-8A0B-4619-BD7C-70BBFC5F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538-1648-4B91-8CAF-73D943E2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FA6-261A-4942-B2EA-8B2B8EB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1AC5-C790-4D52-BFD2-77A1D1A36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isestate.edu/socwork/392/CSB/The%20Triangle%20Shirtwaist%20Fire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trike fight"/>
          <p:cNvPicPr/>
          <p:nvPr/>
        </p:nvPicPr>
        <p:blipFill>
          <a:blip r:embed="rId1"/>
          <a:stretch/>
        </p:blipFill>
        <p:spPr>
          <a:xfrm>
            <a:off x="2286000" y="1752480"/>
            <a:ext cx="6553080" cy="368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kers and Federal tr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505116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ng between workers and emplo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Shirtwaist Factory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Click this photo&#13;&#10;of the shop floor to view presen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051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27840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Triangle Shirtwaist Company"/>
          <p:cNvPicPr/>
          <p:nvPr/>
        </p:nvPicPr>
        <p:blipFill>
          <a:blip r:embed="rId1"/>
          <a:stretch/>
        </p:blipFill>
        <p:spPr>
          <a:xfrm>
            <a:off x="2590920" y="1447920"/>
            <a:ext cx="5783040" cy="38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hotograph:Next of kin attempt to identify victims of the Triangle Shirtwaist Company fire, New York City, 1911."/>
          <p:cNvPicPr/>
          <p:nvPr/>
        </p:nvPicPr>
        <p:blipFill>
          <a:blip r:embed="rId1"/>
          <a:stretch/>
        </p:blipFill>
        <p:spPr>
          <a:xfrm>
            <a:off x="2362320" y="1143000"/>
            <a:ext cx="651816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 of in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5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 acqu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laws changed for women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fir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0"/>
            <a:ext cx="4624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7880"/>
            <a:ext cx="9144000" cy="604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0-04T22:43:19Z</dcterms:modified>
  <cp:revision>1</cp:revision>
  <dc:subject/>
  <dc:title>PowerPoint Presentation</dc:title>
</cp:coreProperties>
</file>