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393C0-7E01-4293-B23A-1306262FD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388800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CCF4A-20A8-4BF0-A1B2-AC4740B22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90840" y="152388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38880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390840" y="38880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D1FBD-22E9-439F-9B97-05C26C176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315160" y="152388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402080" y="152388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38880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315160" y="38880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402080" y="38880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426B5-3468-4C04-898E-E808F3412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28240" y="152388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90840" y="152388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6172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390840" y="152388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28240" y="38880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52388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9E9C1-042D-4499-AB07-4294AD5CF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390840" y="152388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390840" y="38880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90840" y="152388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28240" y="388800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28240" y="388800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90840" y="152388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28240" y="38880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390840" y="38880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315160" y="152388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402080" y="152388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28240" y="38880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315160" y="38880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402080" y="38880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FB5D3-BE90-43C9-8707-F2801E95A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390840" y="152388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B9A3B-4128-4F18-8DCE-C0915AA5F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730EE-25E7-4DE0-9C3E-0614276B4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6172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B79C7-F2C8-4D3E-8A55-D0C4F4AFD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390840" y="152388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38880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0BB79-7B5C-4943-B102-A772864F4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390840" y="152388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390840" y="38880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769A8-30CE-429D-A5A1-3ABD0B16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390840" y="152388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388800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EBE1D-0D7F-4BC7-B75B-EC424BB9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5" descr="PH01926J"/>
          <p:cNvPicPr/>
          <p:nvPr/>
        </p:nvPicPr>
        <p:blipFill>
          <a:blip r:embed="rId2"/>
          <a:stretch/>
        </p:blipFill>
        <p:spPr>
          <a:xfrm>
            <a:off x="6781680" y="0"/>
            <a:ext cx="23623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52388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000640" y="6019560"/>
            <a:ext cx="685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6FA1A-B110-478C-9229-C9B57A2F1CC4}" type="slidenum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9" descr="PH01926J"/>
          <p:cNvPicPr/>
          <p:nvPr/>
        </p:nvPicPr>
        <p:blipFill>
          <a:blip r:embed="rId2"/>
          <a:stretch/>
        </p:blipFill>
        <p:spPr>
          <a:xfrm>
            <a:off x="5562720" y="0"/>
            <a:ext cx="358128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28240" y="152388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d/d6/Eisenhower_d-day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Lesson 3: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The War in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28600" y="46483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Allies defeat Germany and Italy by coordinating war eff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ndy Landing aka D-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2"/>
          <p:cNvSpPr/>
          <p:nvPr/>
        </p:nvSpPr>
        <p:spPr>
          <a:xfrm>
            <a:off x="8001000" y="60199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D9386-032C-4C12-952C-E8B44D3537F9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152280" y="1574640"/>
            <a:ext cx="8153640" cy="52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8001000" y="60199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1D40E-951E-4E92-A2E2-EAB06DC44827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293760" y="0"/>
            <a:ext cx="854532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2"/>
          <p:cNvSpPr/>
          <p:nvPr/>
        </p:nvSpPr>
        <p:spPr>
          <a:xfrm>
            <a:off x="8001000" y="60199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B627D-E591-453C-823A-A3475D4CBC31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19080" y="533520"/>
            <a:ext cx="9124920" cy="62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8001000" y="60199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4223A-8469-4AC4-B252-83B61DD963B8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1576440" y="-52560"/>
            <a:ext cx="5129280" cy="691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2"/>
          <p:cNvSpPr/>
          <p:nvPr/>
        </p:nvSpPr>
        <p:spPr>
          <a:xfrm>
            <a:off x="8001000" y="60199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BA88A-8E17-48B2-8CFF-EEBC11CA3CB1}" type="slidenum">
              <a:rPr b="0" lang="en-US" sz="2000" spc="-1" strike="noStrike">
                <a:solidFill>
                  <a:srgbClr val="ffffd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File:Eisenhower d-day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1106640"/>
            <a:ext cx="7170840" cy="575136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. Eisenhower with D-Day troops;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uncondition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rrend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8001000" y="60199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4FCBA-30E0-4505-AE3B-B3ADFFDBCF86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aving Private Ry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ding in Normandy!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2"/>
          <p:cNvSpPr/>
          <p:nvPr/>
        </p:nvSpPr>
        <p:spPr>
          <a:xfrm>
            <a:off x="8001000" y="60199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88D91-B045-4934-87A6-C7CD45E07A65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rmans surrendering at   St. 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st-lo"/>
          <p:cNvPicPr/>
          <p:nvPr/>
        </p:nvPicPr>
        <p:blipFill>
          <a:blip r:embed="rId1"/>
          <a:stretch/>
        </p:blipFill>
        <p:spPr>
          <a:xfrm>
            <a:off x="304920" y="1523880"/>
            <a:ext cx="6095880" cy="49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2"/>
          <p:cNvSpPr/>
          <p:nvPr/>
        </p:nvSpPr>
        <p:spPr>
          <a:xfrm>
            <a:off x="8001000" y="60199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65634-63FD-4A59-B5FA-F133F0485F4A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rman POW’s in Par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parislib2"/>
          <p:cNvPicPr/>
          <p:nvPr/>
        </p:nvPicPr>
        <p:blipFill>
          <a:blip r:embed="rId1"/>
          <a:stretch/>
        </p:blipFill>
        <p:spPr>
          <a:xfrm>
            <a:off x="304920" y="1805040"/>
            <a:ext cx="6248160" cy="47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4"/>
          <p:cNvSpPr/>
          <p:nvPr/>
        </p:nvSpPr>
        <p:spPr>
          <a:xfrm>
            <a:off x="8001000" y="60199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E2C30-81A8-4089-B303-9A1D55044003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en. Dwight Eisenhow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09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Supreme Commander of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on To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-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-E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90480" y="1523880"/>
            <a:ext cx="3009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0" y="18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12"/>
          <p:cNvGrpSpPr/>
          <p:nvPr/>
        </p:nvGrpSpPr>
        <p:grpSpPr>
          <a:xfrm>
            <a:off x="1828800" y="1800360"/>
            <a:ext cx="5486400" cy="3170160"/>
            <a:chOff x="1828800" y="1800360"/>
            <a:chExt cx="5486400" cy="3170160"/>
          </a:xfrm>
        </p:grpSpPr>
        <p:sp>
          <p:nvSpPr>
            <p:cNvPr id="89" name="Rectangle 9"/>
            <p:cNvSpPr/>
            <p:nvPr/>
          </p:nvSpPr>
          <p:spPr>
            <a:xfrm>
              <a:off x="1828800" y="18003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10"/>
            <p:cNvSpPr/>
            <p:nvPr/>
          </p:nvSpPr>
          <p:spPr>
            <a:xfrm>
              <a:off x="1828800" y="1800360"/>
              <a:ext cx="5486400" cy="317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2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                        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" name="Picture 11" descr="Photograph, The Supreme Allied Commander at 8th Infantry Division headquarters in Belgium, November 1944."/>
          <p:cNvPicPr/>
          <p:nvPr/>
        </p:nvPicPr>
        <p:blipFill>
          <a:blip r:embed="rId1"/>
          <a:stretch/>
        </p:blipFill>
        <p:spPr>
          <a:xfrm>
            <a:off x="3200400" y="1447920"/>
            <a:ext cx="34480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39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Stopping the Germ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North Africa: Operation To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   Stalin wanted Allies to invade France first so Hitler would have to split his m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urchill and FDR launch O.T. instead; not ready to attack France =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alin up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n. Patton kick bu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iteu"/>
          <p:cNvPicPr/>
          <p:nvPr/>
        </p:nvPicPr>
        <p:blipFill>
          <a:blip r:embed="rId1"/>
          <a:srcRect l="0" t="0" r="0" b="20475"/>
          <a:stretch/>
        </p:blipFill>
        <p:spPr>
          <a:xfrm>
            <a:off x="5535720" y="3581280"/>
            <a:ext cx="3554280" cy="3090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6095880" y="182520"/>
            <a:ext cx="2433600" cy="30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 Battle of the Atlant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 7 mos of attack by wolf packs along US east coast =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68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lied ships            destro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*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voy sys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onar and radar help turn tide for U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  Building rate for ships increase 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40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th from 100/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atlantic"/>
          <p:cNvPicPr/>
          <p:nvPr/>
        </p:nvPicPr>
        <p:blipFill>
          <a:blip r:embed="rId1"/>
          <a:stretch/>
        </p:blipFill>
        <p:spPr>
          <a:xfrm>
            <a:off x="4952880" y="1600200"/>
            <a:ext cx="374976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  Battle of Stalingrad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y-Nov 1942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320" y="111456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lvl="1" marL="881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  Invasion of Stalingrad due to Germans needing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il and indust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 Started in summer; thought it would be an easy inva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  Fighting endured for months and in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  Germans on defensive; were not allowed to retreat; eventually surrendered;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 recov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-36360" y="1092240"/>
            <a:ext cx="9144000" cy="360"/>
          </a:xfrm>
          <a:prstGeom prst="rect">
            <a:avLst/>
          </a:prstGeom>
          <a:solidFill>
            <a:srgbClr val="e4f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0920" bIns="-709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2"/>
          <p:cNvGrpSpPr/>
          <p:nvPr/>
        </p:nvGrpSpPr>
        <p:grpSpPr>
          <a:xfrm>
            <a:off x="-36360" y="1092240"/>
            <a:ext cx="9144000" cy="360"/>
            <a:chOff x="-36360" y="1092240"/>
            <a:chExt cx="9144000" cy="360"/>
          </a:xfrm>
        </p:grpSpPr>
        <p:sp>
          <p:nvSpPr>
            <p:cNvPr id="103" name="Rectangle 11"/>
            <p:cNvSpPr/>
            <p:nvPr/>
          </p:nvSpPr>
          <p:spPr>
            <a:xfrm>
              <a:off x="-36360" y="1092240"/>
              <a:ext cx="9144000" cy="360"/>
            </a:xfrm>
            <a:prstGeom prst="rect">
              <a:avLst/>
            </a:prstGeom>
            <a:solidFill>
              <a:srgbClr val="e4f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Group 10"/>
            <p:cNvGrpSpPr/>
            <p:nvPr/>
          </p:nvGrpSpPr>
          <p:grpSpPr>
            <a:xfrm>
              <a:off x="-36360" y="1092240"/>
              <a:ext cx="9144000" cy="360"/>
              <a:chOff x="-36360" y="1092240"/>
              <a:chExt cx="9144000" cy="360"/>
            </a:xfrm>
          </p:grpSpPr>
          <p:sp>
            <p:nvSpPr>
              <p:cNvPr id="105" name="Rectangle 6"/>
              <p:cNvSpPr/>
              <p:nvPr/>
            </p:nvSpPr>
            <p:spPr>
              <a:xfrm>
                <a:off x="-36360" y="1092240"/>
                <a:ext cx="9144000" cy="360"/>
              </a:xfrm>
              <a:prstGeom prst="rect">
                <a:avLst/>
              </a:prstGeom>
              <a:solidFill>
                <a:srgbClr val="e4f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9"/>
              <p:cNvSpPr/>
              <p:nvPr/>
            </p:nvSpPr>
            <p:spPr>
              <a:xfrm>
                <a:off x="-36360" y="1092240"/>
                <a:ext cx="9144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07" name="Picture 13" descr="Map_european_russia_volgograd"/>
          <p:cNvPicPr/>
          <p:nvPr/>
        </p:nvPicPr>
        <p:blipFill>
          <a:blip r:embed="rId1"/>
          <a:stretch/>
        </p:blipFill>
        <p:spPr>
          <a:xfrm>
            <a:off x="4343400" y="1371600"/>
            <a:ext cx="443880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3"/>
          <p:cNvSpPr/>
          <p:nvPr/>
        </p:nvSpPr>
        <p:spPr>
          <a:xfrm>
            <a:off x="8001000" y="60199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5721C-59A7-4130-974D-D6A04004A791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5181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 Italian Campaign (194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ack Italy from the              south in Sicily* the “soft underbelly” of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solini captured and     executed; hung in town squ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iteu"/>
          <p:cNvPicPr/>
          <p:nvPr/>
        </p:nvPicPr>
        <p:blipFill>
          <a:blip r:embed="rId1"/>
          <a:stretch/>
        </p:blipFill>
        <p:spPr>
          <a:xfrm>
            <a:off x="5638680" y="1790640"/>
            <a:ext cx="365760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8001000" y="60199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F3DE9-A025-47CE-959A-8661F261940A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sicily-ship"/>
          <p:cNvPicPr/>
          <p:nvPr/>
        </p:nvPicPr>
        <p:blipFill>
          <a:blip r:embed="rId1"/>
          <a:stretch/>
        </p:blipFill>
        <p:spPr>
          <a:xfrm>
            <a:off x="228600" y="1371600"/>
            <a:ext cx="6651720" cy="44798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n munitions cargo ship bombed by Germans; Italian 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Tehran Conferen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94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28240" y="152388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Roosevelt, Churchill  and Stalin before invasion of F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lin to launch full-scale offensive against Germans after French inva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rmany divided amongst al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lin to support militarily against Ja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8001000" y="60199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5EE5D-FCB9-4ED7-8512-C623AC7A98EA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1371600" y="4111560"/>
            <a:ext cx="436248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8001000" y="60199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21AD4-3D63-4BEA-B7CA-02F7936E9573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.  Landing in France: Operation Overl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6172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 D-Day: June 6, 194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 Day Allies invad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r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led by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. Eisenhow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 Planned f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  Lead by Gen. Eisenh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omb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pply routes (road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dges, RR) for 6 wks bef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a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i.  2,500 killed (matter of hours)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 Allowed Gen Patton and his m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ure Paris via St. 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8" descr=""/>
          <p:cNvPicPr/>
          <p:nvPr/>
        </p:nvPicPr>
        <p:blipFill>
          <a:blip r:embed="rId2"/>
          <a:stretch/>
        </p:blipFill>
        <p:spPr>
          <a:xfrm>
            <a:off x="5870520" y="1219320"/>
            <a:ext cx="327348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9T22:44:08Z</dcterms:created>
  <dc:creator>SUPER</dc:creator>
  <dc:description/>
  <dc:language>en-US</dc:language>
  <cp:lastModifiedBy>SUPER</cp:lastModifiedBy>
  <dcterms:modified xsi:type="dcterms:W3CDTF">2018-01-09T23:03:19Z</dcterms:modified>
  <cp:revision>35</cp:revision>
  <dc:subject/>
  <dc:title>PowerPoint Presentation</dc:title>
</cp:coreProperties>
</file>