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BB35-B380-4D75-AAF9-CEB4ED53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6C57-A22D-4400-9F6A-C471CA72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F301-C875-47E0-B732-EE207363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6162-2AFE-44EB-B789-C09D657B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4352-ED9E-4195-A8FC-861374D5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E043-91E1-48F4-A770-3A6E9F06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5D82-B5F2-4DC1-939F-FE40008E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2B8E-4626-4A55-B7D2-1DFA0E90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6BBE-3885-49E6-8936-064B24C0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BD48-3DF3-4752-A1A3-8A944DBB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37C7-A0B4-4E50-B178-1F27E1D1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36C5-2181-4157-BF44-222AE168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H01926J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019560"/>
            <a:ext cx="685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FB2-140F-47FE-BE88-266821142FFB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PH01926J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6/Eisenhower_d-da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sson 3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e War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llies defeat Germany and Italy by coordinating wa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dy Landing aka D-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962D-20D8-47B1-B29F-C8B42E48067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52280" y="1574640"/>
            <a:ext cx="8153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4768-4EBE-47F4-9078-21C8337D8F1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93760" y="0"/>
            <a:ext cx="85453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5F65-0B71-479F-B845-1703C58B3CDC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9080" y="533520"/>
            <a:ext cx="912492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8F48-AF97-4929-ADE8-2F627243D58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76440" y="-52560"/>
            <a:ext cx="51292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20FB-2C6C-405B-AB7A-C33518BC4490}" type="slidenum">
              <a:rPr b="0" lang="en-US" sz="2000" spc="-1" strike="noStrike">
                <a:solidFill>
                  <a:srgbClr val="ffffd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ile:Eisenhower d-d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06640"/>
            <a:ext cx="7170840" cy="575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. Eisenhower with D-Day troop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en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805B-F2BB-42F4-BD90-D97A489F0A63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ving Private R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in Normand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2667-158D-4A4A-B9D8-F833E14CF78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s surrendering at   St.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-lo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D62D-5B17-4D8D-90A8-D989D07362E2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POW’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arislib2"/>
          <p:cNvPicPr/>
          <p:nvPr/>
        </p:nvPicPr>
        <p:blipFill>
          <a:blip r:embed="rId1"/>
          <a:stretch/>
        </p:blipFill>
        <p:spPr>
          <a:xfrm>
            <a:off x="304920" y="1805040"/>
            <a:ext cx="62481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9AE2-4F76-43B8-94F7-1BAA89A05BD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. Dwight Eisenh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upreme Commander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48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1828800" y="1800360"/>
            <a:ext cx="5486400" cy="3170160"/>
            <a:chOff x="1828800" y="1800360"/>
            <a:chExt cx="5486400" cy="3170160"/>
          </a:xfrm>
        </p:grpSpPr>
        <p:sp>
          <p:nvSpPr>
            <p:cNvPr id="89" name="Rectangle 9"/>
            <p:cNvSpPr/>
            <p:nvPr/>
          </p:nvSpPr>
          <p:spPr>
            <a:xfrm>
              <a:off x="1828800" y="1800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1828800" y="1800360"/>
              <a:ext cx="548640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1" descr="Photograph, The Supreme Allied Commander at 8th Infantry Division headquarters in Belgium, November 1944."/>
          <p:cNvPicPr/>
          <p:nvPr/>
        </p:nvPicPr>
        <p:blipFill>
          <a:blip r:embed="rId1"/>
          <a:stretch/>
        </p:blipFill>
        <p:spPr>
          <a:xfrm>
            <a:off x="3200400" y="1447920"/>
            <a:ext cx="344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3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opping the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North Africa: 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 Stalin wanted Allies to invade France first so Hitler would have to split his 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rchill and FDR launch O.T. instead; not ready to attack France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lin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. Patton kick b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teu"/>
          <p:cNvPicPr/>
          <p:nvPr/>
        </p:nvPicPr>
        <p:blipFill>
          <a:blip r:embed="rId1"/>
          <a:srcRect l="0" t="0" r="0" b="20475"/>
          <a:stretch/>
        </p:blipFill>
        <p:spPr>
          <a:xfrm>
            <a:off x="5535720" y="3581280"/>
            <a:ext cx="3554280" cy="309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6095880" y="182520"/>
            <a:ext cx="2433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Battle of the 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7 mos of attack by wolf packs along US east coast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8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ied ships           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*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oy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nar and radar help turn tide for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Building rate for ships increas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0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 from 100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atlantic"/>
          <p:cNvPicPr/>
          <p:nvPr/>
        </p:nvPicPr>
        <p:blipFill>
          <a:blip r:embed="rId1"/>
          <a:stretch/>
        </p:blipFill>
        <p:spPr>
          <a:xfrm>
            <a:off x="4952880" y="160020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Battle of Stalingra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-Nov 194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1145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Invasion of Stalingrad due to Germans nee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il and indu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Started in summer; thought it would be an easy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Fighting endured for months an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Germans on defensive; were not allowed to retreat; eventually surrendered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 re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-36360" y="1092240"/>
            <a:ext cx="9144000" cy="360"/>
          </a:xfrm>
          <a:prstGeom prst="rect">
            <a:avLst/>
          </a:prstGeom>
          <a:solidFill>
            <a:srgbClr val="e4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0920" bIns="-70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-36360" y="1092240"/>
            <a:ext cx="9144000" cy="360"/>
            <a:chOff x="-36360" y="1092240"/>
            <a:chExt cx="9144000" cy="360"/>
          </a:xfrm>
        </p:grpSpPr>
        <p:sp>
          <p:nvSpPr>
            <p:cNvPr id="103" name="Rectangle 11"/>
            <p:cNvSpPr/>
            <p:nvPr/>
          </p:nvSpPr>
          <p:spPr>
            <a:xfrm>
              <a:off x="-36360" y="1092240"/>
              <a:ext cx="9144000" cy="360"/>
            </a:xfrm>
            <a:prstGeom prst="rect">
              <a:avLst/>
            </a:prstGeom>
            <a:solidFill>
              <a:srgbClr val="e4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-36360" y="1092240"/>
              <a:ext cx="9144000" cy="360"/>
              <a:chOff x="-36360" y="1092240"/>
              <a:chExt cx="9144000" cy="3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solidFill>
                <a:srgbClr val="e4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Picture 13" descr="Map_european_russia_volgograd"/>
          <p:cNvPicPr/>
          <p:nvPr/>
        </p:nvPicPr>
        <p:blipFill>
          <a:blip r:embed="rId1"/>
          <a:stretch/>
        </p:blipFill>
        <p:spPr>
          <a:xfrm>
            <a:off x="4343400" y="1371600"/>
            <a:ext cx="4438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F73D-709C-40D7-8663-B0DEEB76BDE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Italian Campaign (19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Italy from the              south in Sicily* the “soft underbelly”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captured and     executed; hung in tow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iteu"/>
          <p:cNvPicPr/>
          <p:nvPr/>
        </p:nvPicPr>
        <p:blipFill>
          <a:blip r:embed="rId1"/>
          <a:stretch/>
        </p:blipFill>
        <p:spPr>
          <a:xfrm>
            <a:off x="5638680" y="1790640"/>
            <a:ext cx="3657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B0D5-C9DC-4C73-904A-EDAD7ACF608E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icily-ship"/>
          <p:cNvPicPr/>
          <p:nvPr/>
        </p:nvPicPr>
        <p:blipFill>
          <a:blip r:embed="rId1"/>
          <a:stretch/>
        </p:blipFill>
        <p:spPr>
          <a:xfrm>
            <a:off x="228600" y="1371600"/>
            <a:ext cx="6651720" cy="4479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unitions cargo ship bombed by Germans; Italia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ehran Con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Roosevelt, Churchill  and Stalin before invasion o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launch full-scale offensive against Germans after French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ivided amongst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support militarily against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3ADD-E3F3-43AC-820B-970980CB764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71600" y="4111560"/>
            <a:ext cx="4362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8871-7A06-47F8-9B76-FB2D4477C53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Landing in France: Operation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-Day: June 6, 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ay Allies inva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led by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. Eisenh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Plan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Lead by 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mb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 routes (ro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, RR) for 6 wk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2,500 killed (matter of hours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Allowed Gen Patton and his m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Paris via St.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5870520" y="1219320"/>
            <a:ext cx="3273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2:44:08Z</dcterms:created>
  <dc:creator>SUPER</dc:creator>
  <dc:description/>
  <dc:language>en-US</dc:language>
  <cp:lastModifiedBy>SUPER</cp:lastModifiedBy>
  <dcterms:modified xsi:type="dcterms:W3CDTF">2018-01-09T23:03:19Z</dcterms:modified>
  <cp:revision>35</cp:revision>
  <dc:subject/>
  <dc:title>PowerPoint Presentation</dc:title>
</cp:coreProperties>
</file>