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8923-3788-4B66-AD1C-23A64397B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19E0-3F08-45D3-A328-0633BCE1D3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8433-DE45-41F5-A75A-30960A36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85BA-2E66-4FB4-A978-9C30DCBD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82ED-DF8D-4A59-BEA0-BE10EF44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EE80-1613-40BE-8BA3-20A5DC91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4020-763F-41B3-82EC-4155E8A1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4F09-E3FE-49D0-9E78-3B86DF52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8853-BB91-4245-8D5C-0194B34E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FFB5-A9F4-45FE-B6E2-A93A446A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2C10-7A8F-497D-A4D3-C1741051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7B49-0FD2-433A-BB33-C631ED1E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5811-961D-41AC-8411-CE3C0609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1679-C145-409A-84A9-0D737997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0CFF-DDB8-438C-AF7F-6FA8B600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A166-4614-4D70-B89F-467B5D72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E64C-6E83-4141-9DD4-174406F5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276B-6D02-4D87-BB62-25B0F12A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AFA0-B0DD-48EA-8E16-2B747C30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97576-C7DD-4FD0-A2A6-7E050048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43CF-8F91-476A-B164-535E0F07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4185F-FD2E-40ED-BC3F-BA774F8D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6BFF-70F6-49D5-B4C2-92F12E12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8BF1-5CE7-4023-8DDC-B9026EDB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2B1E-6906-41B7-ABD7-78E73040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2694-C6AB-4737-813B-1A1343DD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61F4-963C-4EC1-A74B-204AD8ADB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DDA9-8B68-4EDC-BD54-3A9FB1AFC0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cArthur_Manil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2/March_of_Death_from_Bataan_to_the_prison_camp_-_Dead_soldier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Lesson 2: 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The War in the Pacific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fighting in the Pacific was done over wa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2"/>
          <a:stretch/>
        </p:blipFill>
        <p:spPr>
          <a:xfrm>
            <a:off x="2151000" y="0"/>
            <a:ext cx="484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Battle of Midway: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“payback” for P.H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4038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 by Adm. Nim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to attack; 110 ship; goal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troy US fl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from Midway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waii to ma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outnumber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– massive air attack; Japan retre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p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eco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110160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7" descr="midway4.jpg (18990 bytes)"/>
          <p:cNvPicPr/>
          <p:nvPr/>
        </p:nvPicPr>
        <p:blipFill>
          <a:blip r:embed="rId1"/>
          <a:stretch/>
        </p:blipFill>
        <p:spPr>
          <a:xfrm>
            <a:off x="4495680" y="3733920"/>
            <a:ext cx="4648320" cy="26114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8"/>
          <p:cNvSpPr/>
          <p:nvPr/>
        </p:nvSpPr>
        <p:spPr>
          <a:xfrm>
            <a:off x="14940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10" descr="wpe6.jpg (51006 bytes)"/>
          <p:cNvPicPr/>
          <p:nvPr/>
        </p:nvPicPr>
        <p:blipFill>
          <a:blip r:embed="rId2"/>
          <a:stretch/>
        </p:blipFill>
        <p:spPr>
          <a:xfrm>
            <a:off x="4800600" y="685800"/>
            <a:ext cx="40989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F06F-8D77-4904-8E52-9BFB0489E22E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.  Island Hopp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6553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to take ov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ecific island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acific in order to establish bases as close as possible to Jap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low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irfields, docks, and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. MacArthur return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2 yrs. Later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victory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ttle of Leyte Gulf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hilippi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st naval battle in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mikazes implemented by Japan (15,0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BC93-1B89-4B1B-BBC0-54F540F9F853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amikaz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Image:USS Bunker Hill hit by two Kamikazes.jpg"/>
          <p:cNvPicPr/>
          <p:nvPr/>
        </p:nvPicPr>
        <p:blipFill>
          <a:blip r:embed="rId1"/>
          <a:stretch/>
        </p:blipFill>
        <p:spPr>
          <a:xfrm>
            <a:off x="304920" y="800280"/>
            <a:ext cx="876276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D467-D1D6-4A32-8F5E-ED9EBCB52D00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4" descr="Image:Kamikaze zero.jpg"/>
          <p:cNvPicPr/>
          <p:nvPr/>
        </p:nvPicPr>
        <p:blipFill>
          <a:blip r:embed="rId1"/>
          <a:stretch/>
        </p:blipFill>
        <p:spPr>
          <a:xfrm>
            <a:off x="380880" y="27000"/>
            <a:ext cx="838224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ces of Confli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7" descr="US_landings"/>
          <p:cNvPicPr/>
          <p:nvPr/>
        </p:nvPicPr>
        <p:blipFill>
          <a:blip r:embed="rId1"/>
          <a:stretch/>
        </p:blipFill>
        <p:spPr>
          <a:xfrm>
            <a:off x="228600" y="887400"/>
            <a:ext cx="876312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dfdef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Allies Stem the Japanese Tide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Japan in the Philipp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cArth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diers in Philippines getting killed/woun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 abandons soldiers/promises to 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taan M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,000 POW/10,000 d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05520" y="837720"/>
            <a:ext cx="40384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8" descr="150px-MacArthur_Mani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219320"/>
            <a:ext cx="299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March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ril 9, 194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Bataan_Death_March_route"/>
          <p:cNvPicPr/>
          <p:nvPr/>
        </p:nvPicPr>
        <p:blipFill>
          <a:blip r:embed="rId1"/>
          <a:stretch/>
        </p:blipFill>
        <p:spPr>
          <a:xfrm>
            <a:off x="2209680" y="1473120"/>
            <a:ext cx="484848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Death Mar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5" descr="File:March of Death from Bataan to the prison camp - Dead soldi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5" descr="File:NA 127-N-114541.jpg"/>
          <p:cNvPicPr/>
          <p:nvPr/>
        </p:nvPicPr>
        <p:blipFill>
          <a:blip r:embed="rId1"/>
          <a:stretch/>
        </p:blipFill>
        <p:spPr>
          <a:xfrm>
            <a:off x="228600" y="-14400"/>
            <a:ext cx="86104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5" descr="Anti-Japan2"/>
          <p:cNvPicPr/>
          <p:nvPr/>
        </p:nvPicPr>
        <p:blipFill>
          <a:blip r:embed="rId1"/>
          <a:stretch/>
        </p:blipFill>
        <p:spPr>
          <a:xfrm>
            <a:off x="200196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Battle at Coral Sea – New Naval warf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ighting done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rier-ba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ir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codes deciphered = US better prepa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battle, Alllies able to turn back Japan; invasion of Australia stopped (cut US suppl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5" descr="Image:Principe-de-Asturias Wasp Forrestal Invincible 1991 DN-ST-92-01129s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UPER</cp:lastModifiedBy>
  <dcterms:modified xsi:type="dcterms:W3CDTF">2018-01-09T22:36:1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