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6C12-D4BE-470D-9802-A555D52BD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4ACF-243C-4F16-BB0D-BA8A2F38D9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D417-5E66-4596-901F-54E8DC37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CBFD-F0A3-4359-A04A-22615139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F548-856E-40AB-83B3-166F6CBA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89A1-66E6-4871-BDA4-1ED98C54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616A-8D48-48CC-A2F0-DDEB8D39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995C-E4FE-44A7-A0D1-502AA9B5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8949-09FA-4A2E-BDEF-A6DC1B28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467D-F523-427F-9F7F-C7D7A4F1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7432-CF73-4E60-BA81-8E54AFBE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02CE-624B-44A2-B2ED-FA40CE42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64B8-0D54-4053-8566-639D393C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6710-327A-4330-B098-65A3609F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44AA-1019-4154-A5CD-5D24153A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E5F4-D5A3-4AB3-8017-155B05D3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378E-959C-42BE-AF0D-F49FDF4E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AD27-7116-4ED1-9B45-6CB47354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5C5C-3763-459F-A157-EE06BFF90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11D3D-5D1B-4F72-97EF-8DDD1A0F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3D545-91BF-4226-B683-F28A9F33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4E849-3E44-4CC9-A507-F1A40834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B365-8BA2-4384-B151-03A52290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DFEA-2311-49D9-A901-C4D8293A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BC75-CE70-4F1B-AC2D-5E2CF246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30C90-73F9-4B27-A57C-0E49D71D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1950-99E9-4B92-8168-1EEBDC674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820F-A049-4E69-85CA-17CA05BE82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cArthur_Manil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2/March_of_Death_from_Bataan_to_the_prison_camp_-_Dead_soldier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Lesson 2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The War in the Pacific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fighting in the Pacific was done over wa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2151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attle of Midway: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“payback” for P.H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by Adm. Nim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to attack; 110 ship; goal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roy US fl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rom Midway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waii to ma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outnumber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– massive air attack; Japan ret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p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10160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7" descr="midway4.jpg (18990 bytes)"/>
          <p:cNvPicPr/>
          <p:nvPr/>
        </p:nvPicPr>
        <p:blipFill>
          <a:blip r:embed="rId1"/>
          <a:stretch/>
        </p:blipFill>
        <p:spPr>
          <a:xfrm>
            <a:off x="4495680" y="3733920"/>
            <a:ext cx="4648320" cy="2611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8"/>
          <p:cNvSpPr/>
          <p:nvPr/>
        </p:nvSpPr>
        <p:spPr>
          <a:xfrm>
            <a:off x="14940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10" descr="wpe6.jpg (51006 bytes)"/>
          <p:cNvPicPr/>
          <p:nvPr/>
        </p:nvPicPr>
        <p:blipFill>
          <a:blip r:embed="rId2"/>
          <a:stretch/>
        </p:blipFill>
        <p:spPr>
          <a:xfrm>
            <a:off x="4800600" y="685800"/>
            <a:ext cx="4098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097E-3CAE-4FB0-9331-EA44ECA7C89D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.  Island Hopp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to take ov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cific islan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acific in order to establish bases as close as possible to Ja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ow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irfields, docks, and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. MacArthur retur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2 yrs. Later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victory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ttle of Leyte Gulf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ilipp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st naval battle in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mikazes implemented by Japan (15,0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3C53-D672-408F-852D-ECE3AD78C503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amikaz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Image:USS Bunker Hill hit by two Kamikazes.jpg"/>
          <p:cNvPicPr/>
          <p:nvPr/>
        </p:nvPicPr>
        <p:blipFill>
          <a:blip r:embed="rId1"/>
          <a:stretch/>
        </p:blipFill>
        <p:spPr>
          <a:xfrm>
            <a:off x="304920" y="800280"/>
            <a:ext cx="87627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35BF-0B87-4089-B684-E9E5EC6E235A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4" descr="Image:Kamikaze zero.jpg"/>
          <p:cNvPicPr/>
          <p:nvPr/>
        </p:nvPicPr>
        <p:blipFill>
          <a:blip r:embed="rId1"/>
          <a:stretch/>
        </p:blipFill>
        <p:spPr>
          <a:xfrm>
            <a:off x="380880" y="27000"/>
            <a:ext cx="83822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ces of Confli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US_landings"/>
          <p:cNvPicPr/>
          <p:nvPr/>
        </p:nvPicPr>
        <p:blipFill>
          <a:blip r:embed="rId1"/>
          <a:stretch/>
        </p:blipFill>
        <p:spPr>
          <a:xfrm>
            <a:off x="228600" y="887400"/>
            <a:ext cx="87631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dfdef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llies Stem the Japanese Tide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Japan in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cArth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diers in Philippines getting killed/wo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 abandons soldiers/promises to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aan M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,000 POW/10,000 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05520" y="83772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8" descr="150px-MacArthur_Mani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219320"/>
            <a:ext cx="299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March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9, 194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Bataan_Death_March_route"/>
          <p:cNvPicPr/>
          <p:nvPr/>
        </p:nvPicPr>
        <p:blipFill>
          <a:blip r:embed="rId1"/>
          <a:stretch/>
        </p:blipFill>
        <p:spPr>
          <a:xfrm>
            <a:off x="2209680" y="1473120"/>
            <a:ext cx="48484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Death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File:March of Death from Bataan to the prison camp - Dead soldi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File:NA 127-N-114541.jpg"/>
          <p:cNvPicPr/>
          <p:nvPr/>
        </p:nvPicPr>
        <p:blipFill>
          <a:blip r:embed="rId1"/>
          <a:stretch/>
        </p:blipFill>
        <p:spPr>
          <a:xfrm>
            <a:off x="228600" y="-14400"/>
            <a:ext cx="86104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Anti-Japan2"/>
          <p:cNvPicPr/>
          <p:nvPr/>
        </p:nvPicPr>
        <p:blipFill>
          <a:blip r:embed="rId1"/>
          <a:stretch/>
        </p:blipFill>
        <p:spPr>
          <a:xfrm>
            <a:off x="200196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Battle at Coral Sea – New Naval warf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ghting done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rier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des deciphered = US better prep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attle, Alllies able to turn back Japan; invasion of Australia stopped (cut US suppl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Image:Principe-de-Asturias Wasp Forrestal Invincible 1991 DN-ST-92-01129s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2:36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