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756-7045-4585-9D16-70632993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CD0-88FE-4155-8214-A60EDE88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D0E-81D4-473F-AC0C-FEABC02D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B2F-F6A4-4F6E-879E-0290B2AA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738A-3C36-4E19-8EBB-ECD60837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04A2-6E93-4F0D-886F-E2935756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81A4-53A2-40E3-BC02-0295359C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B05E-F102-4E6B-987F-35B9C19F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B769-4ECC-4213-8D11-855E3B72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3DED-929D-4C5B-B5ED-96F61E6C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34DD-339F-40AE-8219-B6A3C76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1E3-31D8-4044-9B72-6A305296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FA3B-0CDE-4B52-B7A8-5102C00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70A4-461C-49F4-A841-66846F27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E149-51B3-4296-93ED-D47BFB47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ABDE-4C11-41A6-AC69-D60713C6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7A9D-8405-4A58-BDCC-5850CC6D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D04-A52F-4EE2-A161-88D6DB8D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48C-E4D8-4F76-BA84-3A6AA87A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306-969F-456D-AC75-8B7917F5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CF1-D580-43A4-A3CF-E7B8D95E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0AC-789A-46BA-BD27-6CCE7FFA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52E-B390-43BE-8410-F936D5B3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066-DCFA-49AD-B80B-0F55F163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38B3-E581-407B-86A5-BBF4D9AF817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2D2B-126C-474A-B782-BAD2D379EB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. 12:  America and WW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sson 1:  Wartime Amer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Building an Ar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ective Service Act – peace tim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raf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mple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government iss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still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egregat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A to noncombat jobs initial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support or not support the war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V” campaig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uskegee Air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de Talk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men’s Army Corps (WAC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Converting the Ec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erican industry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wi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cto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hange from making cars to making planes and tanks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ip prefabricated = fast production; welding from 244 to 41 days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ar Production Board (WPB):  Responsible for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ducing war product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controlling raw materials and suppl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ffice of War Mobilization:  settled arguments between WPB and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litar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re: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 Life on the Home Fro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nds Great Depression w/jobs and doubling family income = new middle clas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ationing of product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Longer work hours; higher tax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Women in nontraditional jobs; still mostly clerica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xecutive Order 8802: no discrimination for govt employe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acero Program: allowed for Mexican farm work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rcRect l="16376" t="0" r="16594" b="0"/>
          <a:stretch/>
        </p:blipFill>
        <p:spPr>
          <a:xfrm>
            <a:off x="5376960" y="1523880"/>
            <a:ext cx="3321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.  A Nation on the Move 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040" y="1722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gration of workers = need for more hous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suit” vs. “Zoot suits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ecutive Order 906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rematsu v. U.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garden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xes and war b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rcRect l="30486" t="0" r="10618" b="0"/>
          <a:stretch/>
        </p:blipFill>
        <p:spPr>
          <a:xfrm>
            <a:off x="4913280" y="1752480"/>
            <a:ext cx="1982880" cy="21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6918480" y="1884240"/>
            <a:ext cx="2247840" cy="1895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5105520" y="404496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rofiles_of_Courage__Controversy__and_Sacrifice__WWII___Homefront_USA.asf" descr=""/>
          <p:cNvPicPr/>
          <p:nvPr/>
        </p:nvPicPr>
        <p:blipFill>
          <a:blip r:embed="rId1"/>
          <a:stretch/>
        </p:blipFill>
        <p:spPr>
          <a:xfrm>
            <a:off x="1015920" y="7621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files of Courage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3:05:37Z</dcterms:modified>
  <cp:revision>21</cp:revision>
  <dc:subject/>
  <dc:title>PowerPoint Presentation</dc:title>
</cp:coreProperties>
</file>