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671-F904-4E7E-952B-EA1FD7C0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913-D0CE-4F48-A7A2-879EEE7A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FD9-C2A5-4B12-A99E-A29936D8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CBA-0379-4EA7-BA25-4A52D677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0712-7CCB-401F-B543-4597700D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668E-D1FF-4CAC-8407-5BB1CAE9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FE56-2AB2-4F62-AD5E-F61F419A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B592-4229-4CA9-8B07-CC3C7583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2A90-3A08-4079-B3EB-64E494C8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B62A-0598-4630-ADCB-CEBB6FE5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C737-8034-4199-B711-F31D5DD7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376-2F07-4B47-80B0-9CE0433B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1421-F564-4B7B-8F07-3CDF8F17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BE3C-860A-4FA3-967D-8D15E833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E6C7-6DC5-42FF-8A08-B708606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ACD-B963-4474-8B60-AB2CD7DE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ADC5-EC64-45F4-A61A-37B2186E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66B-82B8-4B26-896A-162DF86A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3AE-985A-4D70-ADC4-FBF33960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172-6F0E-4B4D-B281-6FAE7E40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822-26C1-40A2-8BD8-AFF283A0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6A3-416F-4B46-BF73-0C26E7CD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303-758C-455A-B20B-E792367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F16-0E10-4A50-9B77-6A37E23A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A79-01F9-47EE-A3B3-7D8DBC0CE46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03AE-830B-4A4C-9E83-ABD167FBDC4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. 12:  America and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sson 1:  Wartime Amer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ra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gregat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wi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hange from making cars to making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ing from 244 to 41 days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r Production Board (WPB):  Responsible f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ducing war product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Life on the Home Fro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nds Great Depression w/jobs and doubling family income = new middle clas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ationing of product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onger work hours; higher tax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Women in nontraditional jobs; still mostly clerica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xecutive Order 8802: no discrimination for govt employe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cero Program: allowed for Mexican farm wor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16376" t="0" r="16594" b="0"/>
          <a:stretch/>
        </p:blipFill>
        <p:spPr>
          <a:xfrm>
            <a:off x="5376960" y="1523880"/>
            <a:ext cx="332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A Nation on the Move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722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gration of workers = need for more hou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suit” vs. “Zoot suit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ve Order 906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rematsu v. U.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gard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xes and war b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30486" t="0" r="10618" b="0"/>
          <a:stretch/>
        </p:blipFill>
        <p:spPr>
          <a:xfrm>
            <a:off x="4913280" y="1752480"/>
            <a:ext cx="19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918480" y="1884240"/>
            <a:ext cx="2247840" cy="189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5105520" y="404496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rofiles_of_Courage__Controversy__and_Sacrifice__WWII___Homefront_USA.asf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files of Courage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3:05:37Z</dcterms:modified>
  <cp:revision>21</cp:revision>
  <dc:subject/>
  <dc:title>PowerPoint Presentation</dc:title>
</cp:coreProperties>
</file>