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DF65C-304A-45B9-B049-FBA6964A7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8880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2C9B7-93EB-4422-9763-398F7C47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3908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43C00-E16C-4639-88ED-9A8FAF4C3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1516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40208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1516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40208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BAB73-42A9-4AE0-9BF7-EA2D9CFB4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1D9B7-6493-4E82-BD34-5A86663F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3908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28240" y="38880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3908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31516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402080" y="152388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2824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31516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402080" y="38880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51462-FA43-4641-BFA6-18915506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2FEDF-6B03-448A-BD0C-8FDF6DFA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92B4E-2247-44F7-92DD-BB22DD69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228240"/>
            <a:ext cx="6172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0041D-494A-4E7A-AECF-16C2F321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A4BC8-E7DA-49D4-8794-7FC47864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390840" y="38880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BB9BD-301F-4E57-ADA9-491C4BDD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390840" y="152388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8880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4B8C6-870B-44B9-BDB0-E3B9A965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PH01926J"/>
          <p:cNvPicPr/>
          <p:nvPr/>
        </p:nvPicPr>
        <p:blipFill>
          <a:blip r:embed="rId2"/>
          <a:stretch/>
        </p:blipFill>
        <p:spPr>
          <a:xfrm>
            <a:off x="6781680" y="0"/>
            <a:ext cx="23623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000640" y="6019560"/>
            <a:ext cx="685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083F-2FB7-43B6-A1DB-F9A299BB11AD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9" descr="PH01926J"/>
          <p:cNvPicPr/>
          <p:nvPr/>
        </p:nvPicPr>
        <p:blipFill>
          <a:blip r:embed="rId2"/>
          <a:stretch/>
        </p:blipFill>
        <p:spPr>
          <a:xfrm>
            <a:off x="5562720" y="0"/>
            <a:ext cx="3581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6/Eisenhower_d-day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esson 3: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The War in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28600" y="46483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llies defeat Germany and Italy by coordinating war eff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ndy Landing aka D-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B43C-3C23-4A6C-943D-AE3FEF328058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52280" y="1574640"/>
            <a:ext cx="815364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0740-15B9-49AC-94F8-D810B19612BF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293760" y="0"/>
            <a:ext cx="854532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3879-9C8B-4446-9878-DD1336909A97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19080" y="533520"/>
            <a:ext cx="912492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8AC8-B1B3-4EA7-95DD-E5654BA730F1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576440" y="-52560"/>
            <a:ext cx="5129280" cy="69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6314-E334-47F0-B5E8-6DBFC8CD9C72}" type="slidenum">
              <a:rPr b="0" lang="en-US" sz="2000" spc="-1" strike="noStrike">
                <a:solidFill>
                  <a:srgbClr val="ffffd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File:Eisenhower d-da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106640"/>
            <a:ext cx="7170840" cy="57513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. Eisenhower with D-Day troops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condi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rrend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53AC-2A70-44BB-8E62-378C8D6A86E5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aving Private Ry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ing in Normandy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6936-6827-4424-8B11-6D65E345C78D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rmans surrendering at   St. 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st-lo"/>
          <p:cNvPicPr/>
          <p:nvPr/>
        </p:nvPicPr>
        <p:blipFill>
          <a:blip r:embed="rId1"/>
          <a:stretch/>
        </p:blipFill>
        <p:spPr>
          <a:xfrm>
            <a:off x="304920" y="1523880"/>
            <a:ext cx="609588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11CE-3FB8-4B6B-801D-558A418C3CBA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rman POW’s in Pa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parislib2"/>
          <p:cNvPicPr/>
          <p:nvPr/>
        </p:nvPicPr>
        <p:blipFill>
          <a:blip r:embed="rId1"/>
          <a:stretch/>
        </p:blipFill>
        <p:spPr>
          <a:xfrm>
            <a:off x="304920" y="1805040"/>
            <a:ext cx="624816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4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F39F-AA89-44E2-8DCF-58AF368ABB84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n. Dwight Eisenho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00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Supreme Commander of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 To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-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-E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90480" y="1523880"/>
            <a:ext cx="300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2"/>
          <p:cNvGrpSpPr/>
          <p:nvPr/>
        </p:nvGrpSpPr>
        <p:grpSpPr>
          <a:xfrm>
            <a:off x="1828800" y="1800360"/>
            <a:ext cx="5486400" cy="3170160"/>
            <a:chOff x="1828800" y="1800360"/>
            <a:chExt cx="5486400" cy="3170160"/>
          </a:xfrm>
        </p:grpSpPr>
        <p:sp>
          <p:nvSpPr>
            <p:cNvPr id="89" name="Rectangle 9"/>
            <p:cNvSpPr/>
            <p:nvPr/>
          </p:nvSpPr>
          <p:spPr>
            <a:xfrm>
              <a:off x="1828800" y="18003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0"/>
            <p:cNvSpPr/>
            <p:nvPr/>
          </p:nvSpPr>
          <p:spPr>
            <a:xfrm>
              <a:off x="1828800" y="1800360"/>
              <a:ext cx="5486400" cy="31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2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11" descr="Photograph, The Supreme Allied Commander at 8th Infantry Division headquarters in Belgium, November 1944."/>
          <p:cNvPicPr/>
          <p:nvPr/>
        </p:nvPicPr>
        <p:blipFill>
          <a:blip r:embed="rId1"/>
          <a:stretch/>
        </p:blipFill>
        <p:spPr>
          <a:xfrm>
            <a:off x="3200400" y="1447920"/>
            <a:ext cx="3448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39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topping the Ger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North Africa: Operation To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  Stalin wanted Allies to invade France first so Hitler would have to split his 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urchill and FDR launch O.T. instead; not ready to attack France =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lin up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. Patton kick bu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iteu"/>
          <p:cNvPicPr/>
          <p:nvPr/>
        </p:nvPicPr>
        <p:blipFill>
          <a:blip r:embed="rId1"/>
          <a:srcRect l="0" t="0" r="0" b="20475"/>
          <a:stretch/>
        </p:blipFill>
        <p:spPr>
          <a:xfrm>
            <a:off x="5535720" y="3581280"/>
            <a:ext cx="3554280" cy="3090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6095880" y="182520"/>
            <a:ext cx="243360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 Battle of the Atlan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7 mos of attack by wolf packs along US east coast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68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ied ships            destr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*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voy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onar and radar help turn tide for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  Building rate for ships increase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40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h from 100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atlantic"/>
          <p:cNvPicPr/>
          <p:nvPr/>
        </p:nvPicPr>
        <p:blipFill>
          <a:blip r:embed="rId1"/>
          <a:stretch/>
        </p:blipFill>
        <p:spPr>
          <a:xfrm>
            <a:off x="4952880" y="1600200"/>
            <a:ext cx="374976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 Battle of Stalingra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-Nov 1942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320" y="111456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88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 Invasion of Stalingrad due to Germans need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il and indust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 Started in summer; thought it would be an easy inva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  Fighting endured for months and in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  Germans on defensive; were not allowed to retreat; eventually surrendered;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 recov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-36360" y="1092240"/>
            <a:ext cx="9144000" cy="360"/>
          </a:xfrm>
          <a:prstGeom prst="rect">
            <a:avLst/>
          </a:prstGeom>
          <a:solidFill>
            <a:srgbClr val="e4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0920" bIns="-709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2"/>
          <p:cNvGrpSpPr/>
          <p:nvPr/>
        </p:nvGrpSpPr>
        <p:grpSpPr>
          <a:xfrm>
            <a:off x="-36360" y="1092240"/>
            <a:ext cx="9144000" cy="360"/>
            <a:chOff x="-36360" y="1092240"/>
            <a:chExt cx="9144000" cy="360"/>
          </a:xfrm>
        </p:grpSpPr>
        <p:sp>
          <p:nvSpPr>
            <p:cNvPr id="103" name="Rectangle 11"/>
            <p:cNvSpPr/>
            <p:nvPr/>
          </p:nvSpPr>
          <p:spPr>
            <a:xfrm>
              <a:off x="-36360" y="1092240"/>
              <a:ext cx="9144000" cy="360"/>
            </a:xfrm>
            <a:prstGeom prst="rect">
              <a:avLst/>
            </a:prstGeom>
            <a:solidFill>
              <a:srgbClr val="e4f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10"/>
            <p:cNvGrpSpPr/>
            <p:nvPr/>
          </p:nvGrpSpPr>
          <p:grpSpPr>
            <a:xfrm>
              <a:off x="-36360" y="1092240"/>
              <a:ext cx="9144000" cy="360"/>
              <a:chOff x="-36360" y="1092240"/>
              <a:chExt cx="9144000" cy="360"/>
            </a:xfrm>
          </p:grpSpPr>
          <p:sp>
            <p:nvSpPr>
              <p:cNvPr id="105" name="Rectangle 6"/>
              <p:cNvSpPr/>
              <p:nvPr/>
            </p:nvSpPr>
            <p:spPr>
              <a:xfrm>
                <a:off x="-36360" y="1092240"/>
                <a:ext cx="9144000" cy="360"/>
              </a:xfrm>
              <a:prstGeom prst="rect">
                <a:avLst/>
              </a:prstGeom>
              <a:solidFill>
                <a:srgbClr val="e4f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9"/>
              <p:cNvSpPr/>
              <p:nvPr/>
            </p:nvSpPr>
            <p:spPr>
              <a:xfrm>
                <a:off x="-36360" y="1092240"/>
                <a:ext cx="9144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7" name="Picture 13" descr="Map_european_russia_volgograd"/>
          <p:cNvPicPr/>
          <p:nvPr/>
        </p:nvPicPr>
        <p:blipFill>
          <a:blip r:embed="rId1"/>
          <a:stretch/>
        </p:blipFill>
        <p:spPr>
          <a:xfrm>
            <a:off x="4343400" y="1371600"/>
            <a:ext cx="44388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16A9-97F5-47A9-A141-FDC8E12E3AC3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518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 Italian Campaign (194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ack Italy from the              south in Sicily* the “soft underbelly” of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solini captured and     executed; hung in town 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iteu"/>
          <p:cNvPicPr/>
          <p:nvPr/>
        </p:nvPicPr>
        <p:blipFill>
          <a:blip r:embed="rId1"/>
          <a:stretch/>
        </p:blipFill>
        <p:spPr>
          <a:xfrm>
            <a:off x="5638680" y="1790640"/>
            <a:ext cx="36576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1AB0-5282-4683-A51A-98931CA936AB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sicily-ship"/>
          <p:cNvPicPr/>
          <p:nvPr/>
        </p:nvPicPr>
        <p:blipFill>
          <a:blip r:embed="rId1"/>
          <a:stretch/>
        </p:blipFill>
        <p:spPr>
          <a:xfrm>
            <a:off x="228600" y="1371600"/>
            <a:ext cx="6651720" cy="44798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munitions cargo ship bombed by Germans; Italian 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ehran Confere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94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28240" y="152388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Roosevelt, Churchill  and Stalin before invasion of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lin to launch full-scale offensive against Germans after French inva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any divided amongst al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lin to support militarily against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FA5B-ECDD-49D1-906A-1CEDD4CF48E1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371600" y="4111560"/>
            <a:ext cx="436248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8001000" y="6019920"/>
            <a:ext cx="68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B08F-DE47-4EB1-9DAC-E9FA658E9476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 Landing in France: Operation Over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6172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D-Day: June 6, 19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 Day Allies invad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led by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. Eisenho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 Planned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  Lead by Gen. Eisenh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mb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pply routes (road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dges, RR) for 6 wks 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.  2,500 killed (matter of hours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 Allowed Gen Patton and his m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 Paris via St. 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"/>
          <p:cNvPicPr/>
          <p:nvPr/>
        </p:nvPicPr>
        <p:blipFill>
          <a:blip r:embed="rId2"/>
          <a:stretch/>
        </p:blipFill>
        <p:spPr>
          <a:xfrm>
            <a:off x="5870520" y="1219320"/>
            <a:ext cx="327348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22:44:08Z</dcterms:created>
  <dc:creator>SUPER</dc:creator>
  <dc:description/>
  <dc:language>en-US</dc:language>
  <cp:lastModifiedBy>SUPER</cp:lastModifiedBy>
  <dcterms:modified xsi:type="dcterms:W3CDTF">2018-01-09T23:03:19Z</dcterms:modified>
  <cp:revision>35</cp:revision>
  <dc:subject/>
  <dc:title>PowerPoint Presentation</dc:title>
</cp:coreProperties>
</file>