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8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0710-B411-4BEF-B7CB-25077A637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06F7-31C8-422E-9723-0B35ACC2B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77A7E-56AD-43CD-B3B6-53D182E4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17CD-94F7-4426-90E5-451BE553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DA4E-BC01-487C-82DA-D7BC581A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79F2-8734-4ABE-914F-5202DB0E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E895-3BBB-48AC-BEBB-3DC3DB04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A0F0-ECE0-4868-AD13-97FA225F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8CF1-6F0A-4A15-85E7-F8BE3728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7933-5A72-4456-8357-B91C591C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B6EA-1149-4E6D-B5CC-831ACAA3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0736-DFAC-40CE-A576-BE0B3307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11BB-3448-4792-A7AB-0A9B1A3E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21FD-C387-4582-B7CD-7E6D502E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7CA3-A941-47E5-B23B-BE7C81F3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AB33-050E-4B03-B60D-09012D4A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C820-780A-4209-9C7C-BFEDE0F1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8963-1C9A-45C3-8AF1-065055BF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317F-6E81-4BEA-B49D-4FA8DE94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2F2B-AAB2-4FE1-9FC2-5626D9B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82C8C-A6F9-4814-A7AE-17FCD993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46F3-0E55-439F-9FB3-C40354B8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69B0-667A-465C-BBAC-2D5DDBD6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1DFF2-BC7F-4450-A468-1E17C6E8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1FD2-3107-48DE-A9DB-0E6CBF6D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916C3-A7A7-4827-B759-B413174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EC78-C6A5-4549-8145-054094BE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876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8AD1-90DB-403F-8F37-0E6216BD0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acArthur_Manila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2/March_of_Death_from_Bataan_to_the_prison_camp_-_Dead_soldiers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Lesson 2:  </a:t>
            </a:r>
            <a:br>
              <a:rPr sz="5400"/>
            </a:b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The War in the Pacific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of the fighting in the Pacific was done over wa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2"/>
          <a:stretch/>
        </p:blipFill>
        <p:spPr>
          <a:xfrm>
            <a:off x="2151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Battle of Midway: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“payback” for P.H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4038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 by Adm. Nimit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to attack; 110 ship; goal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stroy US fl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from Midway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waii to ma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outnumber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/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ies – massive air attack; Japan retre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p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eco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110160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7" descr="midway4.jpg (18990 bytes)"/>
          <p:cNvPicPr/>
          <p:nvPr/>
        </p:nvPicPr>
        <p:blipFill>
          <a:blip r:embed="rId1"/>
          <a:stretch/>
        </p:blipFill>
        <p:spPr>
          <a:xfrm>
            <a:off x="4495680" y="3733920"/>
            <a:ext cx="4648320" cy="26114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8"/>
          <p:cNvSpPr/>
          <p:nvPr/>
        </p:nvSpPr>
        <p:spPr>
          <a:xfrm>
            <a:off x="149400" y="252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10" descr="wpe6.jpg (51006 bytes)"/>
          <p:cNvPicPr/>
          <p:nvPr/>
        </p:nvPicPr>
        <p:blipFill>
          <a:blip r:embed="rId2"/>
          <a:stretch/>
        </p:blipFill>
        <p:spPr>
          <a:xfrm>
            <a:off x="4800600" y="685800"/>
            <a:ext cx="4098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253E-7347-4F58-B7D6-B4489953BC0E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.  Island Ho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to take ov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 island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acific in order to establish bases as close as possible to Jap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llow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irfields, docks, and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4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. MacArthur retur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2 yrs. Later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e to victory in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attle of Leyte Gulf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hilipp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t naval battle in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577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mikazes implemented by Japan (15,0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2D70-385C-47C8-8CCF-5FCE562712B8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amikaz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4" descr="Image:USS Bunker Hill hit by two Kamikazes.jpg"/>
          <p:cNvPicPr/>
          <p:nvPr/>
        </p:nvPicPr>
        <p:blipFill>
          <a:blip r:embed="rId1"/>
          <a:stretch/>
        </p:blipFill>
        <p:spPr>
          <a:xfrm>
            <a:off x="304920" y="800280"/>
            <a:ext cx="87627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298B-FAA4-4AEA-976A-AF71C2D9979B}" type="slidenum">
              <a:rPr b="0" lang="en-US" sz="2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7" name="Picture 4" descr="Image:Kamikaze zero.jpg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laces of Conflic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7" descr="US_landings"/>
          <p:cNvPicPr/>
          <p:nvPr/>
        </p:nvPicPr>
        <p:blipFill>
          <a:blip r:embed="rId1"/>
          <a:stretch/>
        </p:blipFill>
        <p:spPr>
          <a:xfrm>
            <a:off x="228600" y="887400"/>
            <a:ext cx="876312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>
              <a:buClr>
                <a:srgbClr val="dfdef6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Allies Stem the Japanese Tide</a:t>
            </a:r>
            <a:br>
              <a:rPr sz="3600"/>
            </a:br>
            <a:r>
              <a:rPr b="0" lang="en-US" sz="36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Japan in the Philipp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cArth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diers in Philippines getting killed/woun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-412920">
              <a:spcBef>
                <a:spcPts val="499"/>
              </a:spcBef>
              <a:buClr>
                <a:srgbClr val="9999ff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 abandons soldiers/promises to retu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buClr>
                <a:srgbClr val="ccccff"/>
              </a:buClr>
              <a:buSzPct val="5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taan M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27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,000 POW/10,000 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05520" y="837720"/>
            <a:ext cx="403848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8" descr="150px-MacArthur_Mani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219320"/>
            <a:ext cx="299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March</a:t>
            </a:r>
            <a:br>
              <a:rPr sz="4400"/>
            </a:b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pril 9, 1942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5" descr="Bataan_Death_March_route"/>
          <p:cNvPicPr/>
          <p:nvPr/>
        </p:nvPicPr>
        <p:blipFill>
          <a:blip r:embed="rId1"/>
          <a:stretch/>
        </p:blipFill>
        <p:spPr>
          <a:xfrm>
            <a:off x="2209680" y="1473120"/>
            <a:ext cx="484848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ataan Death Mar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File:March of Death from Bataan to the prison camp - Dead soldi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5" descr="File:NA 127-N-114541.jpg"/>
          <p:cNvPicPr/>
          <p:nvPr/>
        </p:nvPicPr>
        <p:blipFill>
          <a:blip r:embed="rId1"/>
          <a:stretch/>
        </p:blipFill>
        <p:spPr>
          <a:xfrm>
            <a:off x="228600" y="-14400"/>
            <a:ext cx="86104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5" descr="Anti-Japan2"/>
          <p:cNvPicPr/>
          <p:nvPr/>
        </p:nvPicPr>
        <p:blipFill>
          <a:blip r:embed="rId1"/>
          <a:stretch/>
        </p:blipFill>
        <p:spPr>
          <a:xfrm>
            <a:off x="200196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Battle at Coral Sea – New Naval warf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ighting done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rrier-bas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irpl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pan codes deciphered = US better prepa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-495360">
              <a:spcBef>
                <a:spcPts val="601"/>
              </a:spcBef>
              <a:buClr>
                <a:srgbClr val="9999ff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ter battle, Alllies able to turn back Japan; invasion of Australia stopped (cut US suppl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60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5" descr="Image:Principe-de-Asturias Wasp Forrestal Invincible 1991 DN-ST-92-01129s.jpg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PER</dc:creator>
  <dc:description/>
  <dc:language>en-US</dc:language>
  <cp:lastModifiedBy>SUPER</cp:lastModifiedBy>
  <dcterms:modified xsi:type="dcterms:W3CDTF">2018-01-09T22:36:1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