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D4C-B6D7-42A4-B4BE-612B039A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9763-96D8-4392-80FF-2DAF93E3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C5E-6253-4897-8330-BD6B34A3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C5F-35A7-4EC5-AE93-6F14A8D3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6D6F-AA3D-42D3-B0DF-4986F31F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C190-5442-4943-8A6C-ED4734E5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A376-E413-4B86-9002-7870FD8D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365B-3FAE-4F51-B907-DB3995DA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E186-3ADE-4C83-87EE-9D81CF9A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41B3-89B0-4A44-86B4-7AA1C413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FD79-FBFF-4496-B124-9642D360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6B7-14F2-4AAF-9084-9F79C73A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569B-433E-431C-A56D-F2B5FFFB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A208-420C-4DA8-B042-AF67D759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6F5A-0747-4671-A06F-764041F7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C3D5-3EF7-44D1-89D8-C37B97C4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2CBF-B9E6-4805-BE51-4C345859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DA6-25AE-41AB-96DD-C566EB45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955-2D73-4C44-AEEF-A3277DBE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489-0215-422A-9A88-CBA5E633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B16-1BF3-4D09-B6D7-50A95EBE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E30-27D6-40AE-88C8-99C7F869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DAF-740E-485C-8D2A-5FB49DC2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F787-ABF9-41E3-80CE-C8976BE7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B0D3-1126-4425-A34D-FE18C8CD063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CD25-9A6F-4003-99D3-4986C011A38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. 12:  America and WW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sson 1:  Wartime Amer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Building an Ar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ective Service Act – peace tim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draf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mplemen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I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government iss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litary still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egregat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A to noncombat jobs initial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support or not support the war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uble V” campaig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uskegee Air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de Talker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men’s Army Corps (WAC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Converting the Ec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erican industry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wi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he w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ctori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hange from making cars to making planes and tanks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ip prefabricated = fast production; welding from 244 to 41 days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ar Production Board (WPB):  Responsible for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ducing war products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 controlling raw materials and suppl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ffice of War Mobilization:  settled arguments between WPB and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litar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re: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.  Life on the Home Fro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1066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nds Great Depression w/jobs and doubling family income = new middle clas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Rationing of product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Longer work hours; higher tax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Women in nontraditional jobs; still mostly clerica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xecutive Order 8802: no discrimination for govt employe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acero Program: allowed for Mexican farm work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rcRect l="16376" t="0" r="16594" b="0"/>
          <a:stretch/>
        </p:blipFill>
        <p:spPr>
          <a:xfrm>
            <a:off x="5376960" y="1523880"/>
            <a:ext cx="3321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.  A Nation on the Move 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040" y="1722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gration of workers = need for more hous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ctory suit” vs. “Zoot suits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ecutive Order 906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rematsu v. U.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ctory garden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xes and war bo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rcRect l="30486" t="0" r="10618" b="0"/>
          <a:stretch/>
        </p:blipFill>
        <p:spPr>
          <a:xfrm>
            <a:off x="4913280" y="1752480"/>
            <a:ext cx="1982880" cy="216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3"/>
          <a:stretch/>
        </p:blipFill>
        <p:spPr>
          <a:xfrm>
            <a:off x="6918480" y="1884240"/>
            <a:ext cx="2247840" cy="1895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5105520" y="404496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rofiles_of_Courage__Controversy__and_Sacrifice__WWII___Homefront_USA.asf" descr=""/>
          <p:cNvPicPr/>
          <p:nvPr/>
        </p:nvPicPr>
        <p:blipFill>
          <a:blip r:embed="rId1"/>
          <a:stretch/>
        </p:blipFill>
        <p:spPr>
          <a:xfrm>
            <a:off x="1015920" y="7621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files of Courage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UPER</cp:lastModifiedBy>
  <dcterms:modified xsi:type="dcterms:W3CDTF">2018-01-09T23:05:37Z</dcterms:modified>
  <cp:revision>21</cp:revision>
  <dc:subject/>
  <dc:title>PowerPoint Presentation</dc:title>
</cp:coreProperties>
</file>