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BA30-6642-4F4D-B4C8-58EE18F33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26CB-D38F-44B4-A25F-88E44482B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AAE3-C9A6-42FC-B81E-DCE072C86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4BAD-553C-473A-871F-46FCE2CD3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BF743-5620-46DC-8DE4-6A57C393E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73C10-E1BF-4871-9731-830031AA1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DBBB0-AA5B-4E2E-9052-FD6597C64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35D62-930A-43BB-B4E0-11FF1927A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25D26-B970-4448-9DAB-2CEA3B8C7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A7B07-A66B-461F-A58C-A07A46EBC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B0EDF-1779-48DA-BC1D-69A698B7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8C5F-3D84-4DDF-8384-597828DEC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C8D11-B4A0-4587-B245-E4BB035A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8200C-A57C-4952-B405-1E7790DF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5DEFA-C899-42F9-87A4-EA59E7041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2BDFF-8F93-4E22-BC29-87BA6761E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EAEF1-E3C8-4751-8058-4C7575002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8860-384D-4C6B-B3F3-AEBAF590F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A201-B319-4B8B-809D-E0700ACA2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04C9-4D5B-4206-BC3B-737403AC9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1203-1A19-4F4B-ADF8-442CD19F5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6A8A-2399-430F-B370-8DE96127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9FF1-512D-4C91-AA51-CD723B0E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2050-8528-49B9-BB71-4E5DE5BE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8" name="Picture 10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6ADE7-4B25-44DE-BADF-B6E2F5E0B61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Freeform 10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9" name="Picture 11" descr="Facbanna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0D30D-E567-408D-BDFC-43FF62EF75E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h. 12:  America and WWII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sson 1:  Wartime Americ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.  Building an Arm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lective Service Act – peace time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draft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mplemen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I =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government iss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ilitary still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segregated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A to noncombat jobs initiall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support or not support the war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ouble V” campaig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uskegee Airme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de Talkers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omen’s Army Corps (WAC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.  Converting the Econom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merican industry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win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the wa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Factorie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change from making cars to making planes and tanks       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hip prefabricated = fast production; welding from 244 to 41 days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ar Production Board (WPB):  Responsible for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producing war products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d controlling raw materials and suppli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ffice of War Mobilization:  settled arguments between WPB and the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military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re: produc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.  Life on the Home Fron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66680" y="1066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83760" indent="-383760">
              <a:spcBef>
                <a:spcPts val="55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Ends Great Depression w/jobs and doubling family income = new middle class.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83760" indent="-383760">
              <a:spcBef>
                <a:spcPts val="55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Rationing of products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83760" indent="-383760">
              <a:spcBef>
                <a:spcPts val="55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Longer work hours; higher taxes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83760" indent="-383760">
              <a:spcBef>
                <a:spcPts val="55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Women in nontraditional jobs; still mostly clerical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83760" indent="-383760">
              <a:spcBef>
                <a:spcPts val="550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Arial"/>
              </a:rPr>
              <a:t>Executive Order 8802: no discrimination for govt employees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83760" indent="-38376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racero Program: allowed for Mexican farm worke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028840" y="16765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"/>
          <p:cNvPicPr/>
          <p:nvPr/>
        </p:nvPicPr>
        <p:blipFill>
          <a:blip r:embed="rId2"/>
          <a:srcRect l="16376" t="0" r="16594" b="0"/>
          <a:stretch/>
        </p:blipFill>
        <p:spPr>
          <a:xfrm>
            <a:off x="5376960" y="1523880"/>
            <a:ext cx="33210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.  A Nation on the Move 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14040" y="17226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igration of workers = need for more hous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Victory suit” vs. “Zoot suits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xecutive Order 9066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Korematsu v. U.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Victory garden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axes and war bond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28840" y="16765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2"/>
          <a:srcRect l="30486" t="0" r="10618" b="0"/>
          <a:stretch/>
        </p:blipFill>
        <p:spPr>
          <a:xfrm>
            <a:off x="4913280" y="1752480"/>
            <a:ext cx="1982880" cy="2160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"/>
          <p:cNvPicPr/>
          <p:nvPr/>
        </p:nvPicPr>
        <p:blipFill>
          <a:blip r:embed="rId3"/>
          <a:stretch/>
        </p:blipFill>
        <p:spPr>
          <a:xfrm>
            <a:off x="6918480" y="1884240"/>
            <a:ext cx="2247840" cy="1895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4"/>
          <a:stretch/>
        </p:blipFill>
        <p:spPr>
          <a:xfrm>
            <a:off x="5105520" y="4044960"/>
            <a:ext cx="380988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rofiles_of_Courage__Controversy__and_Sacrifice__WWII___Homefront_USA.asf" descr=""/>
          <p:cNvPicPr/>
          <p:nvPr/>
        </p:nvPicPr>
        <p:blipFill>
          <a:blip r:embed="rId1"/>
          <a:stretch/>
        </p:blipFill>
        <p:spPr>
          <a:xfrm>
            <a:off x="1015920" y="762120"/>
            <a:ext cx="8128080" cy="60958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rofiles of Courage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UPER</dc:creator>
  <dc:description/>
  <dc:language>en-US</dc:language>
  <cp:lastModifiedBy>SUPER</cp:lastModifiedBy>
  <dcterms:modified xsi:type="dcterms:W3CDTF">2018-01-09T23:05:37Z</dcterms:modified>
  <cp:revision>21</cp:revision>
  <dc:subject/>
  <dc:title>PowerPoint Presentation</dc:title>
</cp:coreProperties>
</file>