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534-525A-4E30-B8D2-43FAED26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197-2778-4BCD-8FFF-A1A7C5B7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D43-65AF-42F4-926A-F01A8260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CC5-3056-43D8-97D4-8E6CDFA7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B620-DCAE-4155-B4A7-85AB7BE7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6E86-AABB-46E6-A757-2DE0D371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4ED8-BBED-4ADF-9634-F3A323B1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E26E-733C-42D6-A81D-6667D8D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E873-7468-491D-9EBD-DF826FD4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21F8-F83F-4CF4-BCD8-7D70D235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822C-8977-4E78-A196-2F47ABFE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735-6244-4652-BC0B-B681564E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7B33-0AFB-4A3B-8698-E9A61DCF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5C90-8795-4FCC-A53A-7B9C0549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71A0-2C5B-4E8A-B94B-C66B9EC5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4536-56C4-4D6A-9FE7-1EED654D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603A-2EDA-4F4F-8DD5-496A4410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038-88B0-493E-A704-3C34AFEA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BF9-7ECE-4001-94AA-05526C15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99E-4A44-4DCA-BBDD-C992F0A6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CCB-F8EE-45F0-831D-2F137659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965-2775-4EEA-BEDA-B2C7E8C5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21E-8260-4834-A2F7-294822CA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E4F-A604-4452-BC8F-A09D7353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F2C9-936E-4623-B568-1DDB9369FAE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93A2-AAE9-4746-9F2A-86CB3E72A0C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ps.gov/meve/planyourvisit/hour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banas/theodo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ddy Roosevelt’s Square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odore Roosevelt reforms domestic agendas and 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minated selling of contaminated foods and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lled for truth in labe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21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deral Arbi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trikes threaten public well being, the federal gov’t was expected to get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helps in negotiating between management and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1523880"/>
            <a:ext cx="29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bu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osevelt believed not  all trusts were bad, only those who hurt the public interest were b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eel, oil, beef, tobacco, R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federal gov’t had the right to regulate big 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419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servation vs. Preservation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tection of natural resources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ome, save s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none, save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0 Forest Preserves, 5 National P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89080" y="2378160"/>
            <a:ext cx="4965840" cy="2471400"/>
            <a:chOff x="2089080" y="2378160"/>
            <a:chExt cx="4965840" cy="2471400"/>
          </a:xfrm>
        </p:grpSpPr>
        <p:sp>
          <p:nvSpPr>
            <p:cNvPr id="137" name=""/>
            <p:cNvSpPr/>
            <p:nvPr/>
          </p:nvSpPr>
          <p:spPr>
            <a:xfrm>
              <a:off x="2089080" y="2378160"/>
              <a:ext cx="4965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89080" y="2378160"/>
              <a:ext cx="4965840" cy="2471400"/>
              <a:chOff x="2089080" y="2378160"/>
              <a:chExt cx="4965840" cy="2471400"/>
            </a:xfrm>
          </p:grpSpPr>
          <p:sp>
            <p:nvSpPr>
              <p:cNvPr id="139" name=""/>
              <p:cNvSpPr/>
              <p:nvPr/>
            </p:nvSpPr>
            <p:spPr>
              <a:xfrm>
                <a:off x="2089080" y="2378160"/>
                <a:ext cx="4965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89080" y="2378160"/>
                <a:ext cx="2013120" cy="2471400"/>
                <a:chOff x="2089080" y="2378160"/>
                <a:chExt cx="2013120" cy="247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89080" y="2378160"/>
                  <a:ext cx="165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89080" y="2378160"/>
                  <a:ext cx="2013120" cy="24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33cc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08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                    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3" name="" descr="A snowy roadside view of Knife Edge Point and beyond to Montezuma Valley"/>
          <p:cNvPicPr/>
          <p:nvPr/>
        </p:nvPicPr>
        <p:blipFill>
          <a:blip r:embed="rId2"/>
          <a:stretch/>
        </p:blipFill>
        <p:spPr>
          <a:xfrm>
            <a:off x="2057400" y="3429000"/>
            <a:ext cx="6477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3200400" y="1676520"/>
            <a:ext cx="3160800" cy="34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2817720" cy="334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19920" y="2514600"/>
            <a:ext cx="289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Modern President”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6</a:t>
            </a:r>
            <a:r>
              <a:rPr b="0" lang="en-US" sz="40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es. 1901-1909 (R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ngest president ever @ 4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responsible for citiz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werful federal gov’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quare D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orm supported by the Roosevelt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kins Act of 190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bust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pburn Act of 19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ton Sinclai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78-196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97240" cy="488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548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143160" cy="4389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everything but the squ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54200" y="181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937040" cy="386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57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 aimed at the public's heart, and by accident I hit it in the stomach."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93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 cleanliness requirements for meatp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form of gov’t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53960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19T16:08:41Z</dcterms:modified>
  <cp:revision>11</cp:revision>
  <dc:subject/>
  <dc:title>PowerPoint Presentation</dc:title>
</cp:coreProperties>
</file>