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55B-AB61-48B9-9838-0716715D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E4B-1758-4EDC-AE5E-9CFE041D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4A4-3D37-436D-91C8-98CD3C15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1DE-1492-4E53-BD8A-0B8DA81A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1F2E-7479-437F-B31B-242086A4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130E-1F0F-4FE5-B616-03DAA7C1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BBE8-3ABB-42D2-9EE1-5FDB31B1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DB42-17CD-47D2-B2CD-8B354A08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5925-C70D-42B8-8055-541A7E02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DBE0-E256-45B4-AFB2-F2447E6C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F0C6-9D1C-4911-81CF-2727D935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564-96DD-4D79-B2B8-AA282FEA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9D19-A350-4B65-8EF0-206E8CCE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972E-180C-4210-9107-ABFE811A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7E90-F7A3-4ECF-8FEC-FC8221E1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EBFB-BEBC-42DD-8A2B-CE225559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DB22-F26C-4718-A4C5-A7F9312E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63A-41BD-47FC-905D-CE1571E9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7B7-27D4-42A8-8D80-E996AC15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F80-ED15-418D-B890-66BE38A4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4C1-718F-470B-8F16-043DB536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AE6-4001-4D59-B5E3-86C67E79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AAF-4C27-474D-A5AE-ECBFE892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A43-9974-4136-9520-57A51D3F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D9A8-3B08-4E43-8A2B-99D97E66995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24C9-9BD3-4667-909D-B01C279DDE9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ps.gov/meve/planyourvisit/hours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su.buffalo.edu/~mdbanas/theodor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ddy Roosevelt’s Square De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Theodore Roosevelt reforms domestic agendas and 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liminated selling of contaminated foods and medic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called for truth in label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211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ederal Arbit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strikes threaten public well being, the federal gov’t was expected to get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helps in negotiating between management and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57880" y="1523880"/>
            <a:ext cx="295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bus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osevelt believed not  all trusts were bad, only those who hurt the public interest were b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eel, oil, beef, tobacco, R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ieved federal gov’t had the right to regulate big busin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50000" y="1600200"/>
            <a:ext cx="41940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servation vs. Preservation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rotection of natural resources</a:t>
            </a:r>
            <a:br>
              <a:rPr sz="40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some, save so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none, save 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50 Forest Preserves, 5 National Par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089080" y="2378160"/>
            <a:ext cx="4965840" cy="2471400"/>
            <a:chOff x="2089080" y="2378160"/>
            <a:chExt cx="4965840" cy="2471400"/>
          </a:xfrm>
        </p:grpSpPr>
        <p:sp>
          <p:nvSpPr>
            <p:cNvPr id="137" name=""/>
            <p:cNvSpPr/>
            <p:nvPr/>
          </p:nvSpPr>
          <p:spPr>
            <a:xfrm>
              <a:off x="2089080" y="2378160"/>
              <a:ext cx="4965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089080" y="2378160"/>
              <a:ext cx="4965840" cy="2471400"/>
              <a:chOff x="2089080" y="2378160"/>
              <a:chExt cx="4965840" cy="2471400"/>
            </a:xfrm>
          </p:grpSpPr>
          <p:sp>
            <p:nvSpPr>
              <p:cNvPr id="139" name=""/>
              <p:cNvSpPr/>
              <p:nvPr/>
            </p:nvSpPr>
            <p:spPr>
              <a:xfrm>
                <a:off x="2089080" y="2378160"/>
                <a:ext cx="49658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2089080" y="2378160"/>
                <a:ext cx="2013120" cy="2471400"/>
                <a:chOff x="2089080" y="2378160"/>
                <a:chExt cx="2013120" cy="2471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089080" y="2378160"/>
                  <a:ext cx="1652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089080" y="2378160"/>
                  <a:ext cx="2013120" cy="24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ff33cc"/>
                      </a:solidFill>
                      <a:uFillTx/>
                      <a:latin typeface="Times New Roman"/>
                      <a:hlinkClick r:id="rId1"/>
                    </a:rPr>
                    <a:t>  </a:t>
                  </a:r>
                  <a:r>
                    <a:rPr b="0" lang="en-US" sz="108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                     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3" name="" descr="A snowy roadside view of Knife Edge Point and beyond to Montezuma Valley"/>
          <p:cNvPicPr/>
          <p:nvPr/>
        </p:nvPicPr>
        <p:blipFill>
          <a:blip r:embed="rId2"/>
          <a:stretch/>
        </p:blipFill>
        <p:spPr>
          <a:xfrm>
            <a:off x="2057400" y="3429000"/>
            <a:ext cx="6477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odore Roosevelt: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The Modern President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" descr="Photograph:Theodore Roosevelt photographed in Colorado in 1905."/>
          <p:cNvPicPr/>
          <p:nvPr/>
        </p:nvPicPr>
        <p:blipFill>
          <a:blip r:embed="rId1"/>
          <a:stretch/>
        </p:blipFill>
        <p:spPr>
          <a:xfrm>
            <a:off x="3200400" y="1676520"/>
            <a:ext cx="3160800" cy="3485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2817720" cy="334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89200" y="12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3760" y="303120"/>
            <a:ext cx="9144000" cy="360"/>
          </a:xfrm>
          <a:prstGeom prst="rect">
            <a:avLst/>
          </a:prstGeom>
          <a:solidFill>
            <a:srgbClr val="ea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019920" y="2514600"/>
            <a:ext cx="2898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Modern President”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6</a:t>
            </a:r>
            <a:r>
              <a:rPr b="0" lang="en-US" sz="4000" spc="-1" strike="noStrike" baseline="30000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Pres. 1901-1909 (R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ngest president ever @ 4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responsible for citize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werful federal gov’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600200"/>
            <a:ext cx="3429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quare D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orm supported by the Roosevelt adminis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C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kins Act of 1903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ustbustin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pburn Act of 190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pton Sinclai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78-196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97240" cy="4884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25480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4191120" cy="2894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91320" y="1371600"/>
            <a:ext cx="3143160" cy="4389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 everything but the squ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54200" y="1816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4937040" cy="386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32576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 aimed at the public's heart, and by accident I hit it in the stomach."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93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ict cleanliness requirements for meatpac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ther form of gov’t regu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3048120"/>
            <a:ext cx="539604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0-19T16:08:41Z</dcterms:modified>
  <cp:revision>11</cp:revision>
  <dc:subject/>
  <dc:title>PowerPoint Presentation</dc:title>
</cp:coreProperties>
</file>