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CAB-C39C-402D-B019-20F068CE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450-B59F-433C-94EA-6DE26B60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A6C-9D51-47D3-97F8-D831F224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E60-B53A-44A4-9C4B-67106AA0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BA9E-8456-481A-BF67-807515FF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1F71-131A-430F-B57C-64DF903A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DA5C-B40A-4ECD-A340-1CEBA9E8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E349-0982-4C31-94DD-21D4BBC1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3027-99CB-4AAA-ADD4-5CC46F96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D342-B216-4F54-AA4F-42EF2EDB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461C-DF85-4A69-8D18-22F20488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B58-9911-46A4-99B7-04113213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0C19-70A6-4009-9DFA-CCD60C93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AC9E-B408-45EB-94F3-E3A53383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F130-B7FA-4AEA-8BE5-2201E062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A033-4FA2-44AF-B69E-58C64068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3E6E-EE92-4100-9B33-E74F6A7D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E7F3-6CFB-4F97-A0B9-600BB531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39E-8F77-4D80-8768-B9027BC1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574-A582-403A-BE8E-646A7674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6662-B8EC-41E7-B6D6-5E3020CE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B22-09CE-4B81-9564-AE415635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79F-69EE-4733-9D4B-EA249759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277-D380-4F4C-A6C5-A05AF04C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5CD7-2EE1-4123-88B8-6E6AC2265E5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5C48-6C3C-4C35-8011-5FBCFFCD149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ps.gov/meve/planyourvisit/hour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su.buffalo.edu/~mdbanas/theodo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ddy Roosevelt’s Square De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Theodore Roosevelt reforms domestic agendas and 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iminated selling of contaminated foods and medic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called for truth in label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211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ederal Arbit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strikes threaten public well being, the federal gov’t was expected to get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helps in negotiating between management and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57880" y="1523880"/>
            <a:ext cx="295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bus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osevelt believed not  all trusts were bad, only those who hurt the public interest were b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eel, oil, beef, tobacco, R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federal gov’t had the right to regulate big busi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4194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servation vs. Preservation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otection of natural resources</a:t>
            </a:r>
            <a:br>
              <a:rPr sz="40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some, save so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none, save 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50 Forest Preserves, 5 National Par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89080" y="2378160"/>
            <a:ext cx="4965840" cy="2471400"/>
            <a:chOff x="2089080" y="2378160"/>
            <a:chExt cx="4965840" cy="2471400"/>
          </a:xfrm>
        </p:grpSpPr>
        <p:sp>
          <p:nvSpPr>
            <p:cNvPr id="137" name=""/>
            <p:cNvSpPr/>
            <p:nvPr/>
          </p:nvSpPr>
          <p:spPr>
            <a:xfrm>
              <a:off x="2089080" y="2378160"/>
              <a:ext cx="4965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089080" y="2378160"/>
              <a:ext cx="4965840" cy="2471400"/>
              <a:chOff x="2089080" y="2378160"/>
              <a:chExt cx="4965840" cy="2471400"/>
            </a:xfrm>
          </p:grpSpPr>
          <p:sp>
            <p:nvSpPr>
              <p:cNvPr id="139" name=""/>
              <p:cNvSpPr/>
              <p:nvPr/>
            </p:nvSpPr>
            <p:spPr>
              <a:xfrm>
                <a:off x="2089080" y="2378160"/>
                <a:ext cx="4965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089080" y="2378160"/>
                <a:ext cx="2013120" cy="2471400"/>
                <a:chOff x="2089080" y="2378160"/>
                <a:chExt cx="2013120" cy="2471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089080" y="2378160"/>
                  <a:ext cx="1652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089080" y="2378160"/>
                  <a:ext cx="2013120" cy="24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ff33cc"/>
                      </a:solidFill>
                      <a:uFillTx/>
                      <a:latin typeface="Times New Roman"/>
                      <a:hlinkClick r:id="rId1"/>
                    </a:rPr>
                    <a:t>  </a:t>
                  </a:r>
                  <a:r>
                    <a:rPr b="0" lang="en-US" sz="108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                     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3" name="" descr="A snowy roadside view of Knife Edge Point and beyond to Montezuma Valley"/>
          <p:cNvPicPr/>
          <p:nvPr/>
        </p:nvPicPr>
        <p:blipFill>
          <a:blip r:embed="rId2"/>
          <a:stretch/>
        </p:blipFill>
        <p:spPr>
          <a:xfrm>
            <a:off x="2057400" y="3429000"/>
            <a:ext cx="6477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odore Roosevelt: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The Modern President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Photograph:Theodore Roosevelt photographed in Colorado in 1905."/>
          <p:cNvPicPr/>
          <p:nvPr/>
        </p:nvPicPr>
        <p:blipFill>
          <a:blip r:embed="rId1"/>
          <a:stretch/>
        </p:blipFill>
        <p:spPr>
          <a:xfrm>
            <a:off x="3200400" y="1676520"/>
            <a:ext cx="3160800" cy="3485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2817720" cy="334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89200" y="12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3760" y="303120"/>
            <a:ext cx="9144000" cy="360"/>
          </a:xfrm>
          <a:prstGeom prst="rect">
            <a:avLst/>
          </a:prstGeom>
          <a:solidFill>
            <a:srgbClr val="ea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19920" y="2514600"/>
            <a:ext cx="289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Modern President”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6</a:t>
            </a:r>
            <a:r>
              <a:rPr b="0" lang="en-US" sz="40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Pres. 1901-1909 (R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ngest president ever @ 4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responsible for citize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werful federal gov’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600200"/>
            <a:ext cx="3429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quare D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orm supported by the Roosevelt adminis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C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kins Act of 1903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ustbustin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pburn Act of 190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ton Sinclai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78-196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97240" cy="4884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548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4191120" cy="2894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3143160" cy="4389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 everything but the squ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54200" y="1816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4937040" cy="386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32576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 aimed at the public's heart, and by accident I hit it in the stomach."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93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ict cleanliness requirements for meatpac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ther form of gov’t regu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3048120"/>
            <a:ext cx="539604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19T16:08:41Z</dcterms:modified>
  <cp:revision>11</cp:revision>
  <dc:subject/>
  <dc:title>PowerPoint Presentation</dc:title>
</cp:coreProperties>
</file>