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94F-FB03-4305-AEA0-30D325F7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FF3-1B4B-487B-A051-F57E6E9A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0C3-A707-4B83-B82B-F8F96C5E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432-2EF3-453D-810B-5BB14D32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E168-2602-4F01-BC06-BCC5DF49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D6E7-E0FF-4A12-B60F-79326746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889E-BC14-4A16-9FC8-3DD6111C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22EB-F8C5-48FF-97D5-D067E199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9846-D606-4CB5-804D-B8405381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15DE-2C78-4546-88AD-0B8FDEA8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55B3-86D2-4745-A5F9-ABB12701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B43-9EE8-453B-8675-9CAED258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314E-457F-4FE1-8077-FE527CB2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88E5-49B5-451A-9E25-03464EBD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2523-5D0D-4EE3-8CED-20F1C436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908F-02B3-4B14-AD26-6663E318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FC10-6779-407A-BACA-226D1318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0D0-385E-4AD6-8837-EB54220B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9B4-3FB5-4F03-BB69-04352238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4A8-3E6D-4FD6-B922-336D31DA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FB7-071A-41B3-81CA-70BBA523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555-BE29-469C-8CD5-616B40CD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B73-C31C-4932-BDB2-58FB824E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07D-2E1D-4BC1-8737-FCC08D8F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5C4E-1606-411C-B859-B186375A90A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F23A-2F80-458B-9BF1-FDCAA99E5A3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ps.gov/meve/planyourvisit/hour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banas/theodo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ddy Roosevelt’s Square De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odore Roosevelt reforms domestic agendas and 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minated selling of contaminated foods and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lled for truth in labe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21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deral Arbi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strikes threaten public well being, the federal gov’t was expected to get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helps in negotiating between management and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1523880"/>
            <a:ext cx="29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bu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osevelt believed not  all trusts were bad, only those who hurt the public interest were b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eel, oil, beef, tobacco, R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federal gov’t had the right to regulate big 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419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servation vs. Preservation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tection of natural resources</a:t>
            </a:r>
            <a:br>
              <a:rPr sz="40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ome, save so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none, save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50 Forest Preserves, 5 National Pa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89080" y="2378160"/>
            <a:ext cx="4965840" cy="2471400"/>
            <a:chOff x="2089080" y="2378160"/>
            <a:chExt cx="4965840" cy="2471400"/>
          </a:xfrm>
        </p:grpSpPr>
        <p:sp>
          <p:nvSpPr>
            <p:cNvPr id="137" name=""/>
            <p:cNvSpPr/>
            <p:nvPr/>
          </p:nvSpPr>
          <p:spPr>
            <a:xfrm>
              <a:off x="2089080" y="2378160"/>
              <a:ext cx="4965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89080" y="2378160"/>
              <a:ext cx="4965840" cy="2471400"/>
              <a:chOff x="2089080" y="2378160"/>
              <a:chExt cx="4965840" cy="2471400"/>
            </a:xfrm>
          </p:grpSpPr>
          <p:sp>
            <p:nvSpPr>
              <p:cNvPr id="139" name=""/>
              <p:cNvSpPr/>
              <p:nvPr/>
            </p:nvSpPr>
            <p:spPr>
              <a:xfrm>
                <a:off x="2089080" y="2378160"/>
                <a:ext cx="4965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89080" y="2378160"/>
                <a:ext cx="2013120" cy="2471400"/>
                <a:chOff x="2089080" y="2378160"/>
                <a:chExt cx="2013120" cy="2471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089080" y="2378160"/>
                  <a:ext cx="165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89080" y="2378160"/>
                  <a:ext cx="2013120" cy="24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33cc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08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                     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3" name="" descr="A snowy roadside view of Knife Edge Point and beyond to Montezuma Valley"/>
          <p:cNvPicPr/>
          <p:nvPr/>
        </p:nvPicPr>
        <p:blipFill>
          <a:blip r:embed="rId2"/>
          <a:stretch/>
        </p:blipFill>
        <p:spPr>
          <a:xfrm>
            <a:off x="2057400" y="3429000"/>
            <a:ext cx="6477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3200400" y="1676520"/>
            <a:ext cx="3160800" cy="34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2817720" cy="334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19920" y="2514600"/>
            <a:ext cx="289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Modern President”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6</a:t>
            </a:r>
            <a:r>
              <a:rPr b="0" lang="en-US" sz="40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es. 1901-1909 (R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ngest president ever @ 4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responsible for citiz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werful federal gov’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quare D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orm supported by the Roosevelt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C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kins Act of 190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bust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pburn Act of 19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ton Sinclai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78-196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97240" cy="488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548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143160" cy="4389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everything but the squ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54200" y="1816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937040" cy="386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57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 aimed at the public's heart, and by accident I hit it in the stomach."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93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ct cleanliness requirements for meatpac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form of gov’t reg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53960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19T16:08:41Z</dcterms:modified>
  <cp:revision>11</cp:revision>
  <dc:subject/>
  <dc:title>PowerPoint Presentation</dc:title>
</cp:coreProperties>
</file>