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8A7-3D4F-4540-A2E8-24AE276B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ACAF-6742-4309-857D-F0B081C8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9C3-634C-4D76-8AB1-4E1D2693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9F2A-A614-4FD2-A6FB-A76040B9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D08A-B404-415A-A476-580DDA00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78FE-B7E1-4074-8529-3E3A2034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0A2C-5222-4A53-B100-95C72686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500F-6252-4BD5-84F7-1667F30F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F851-8B51-466B-9EF6-17A3C0AF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65AD-E6BB-4F46-ACED-F9E56DD3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73B7-F323-4522-A10D-4B92C75E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E1F6-10DB-45BD-8AF9-7E84490F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57D0-E129-4535-B289-CE1C2B78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A286-E2FB-4A80-8440-49E033AC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9059-6FDA-4D33-AE35-021CB032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AE05-A5DB-45D3-86B0-96059BD6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1008-A543-4D44-84B1-80D4CABE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A3CE-D122-4220-A65C-98A78EB9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C3B-945A-4963-844D-395865D9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51C-B203-4DA2-9AB8-480CD82C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1A43-0ED9-4F0D-87AD-8F3A9A7E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FB8-4C24-4F72-BB15-C00AA63A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BDD-65E0-4C10-9B10-5092B2D3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DB8-A20B-432F-8007-B5D0DABD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3F11-220D-440A-877F-5470208C4A7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F2AE-E6A1-4E8F-944A-76B8BEE18AC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ps.gov/meve/planyourvisit/hours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su.buffalo.edu/~mdbanas/theodor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ddy Roosevelt’s Square De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Theodore Roosevelt reforms domestic agendas and 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liminated selling of contaminated foods and medic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so called for truth in label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52116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ederal Arbitr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strikes threaten public well being, the federal gov’t was expected to get involv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helps in negotiating between management and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57880" y="1523880"/>
            <a:ext cx="295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ustbus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osevelt believed not  all trusts were bad, only those who hurt the public interest were b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eel, oil, beef, tobacco, R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ieved federal gov’t had the right to regulate big busine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50000" y="1600200"/>
            <a:ext cx="419400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servation vs. Preservation</a:t>
            </a:r>
            <a:br>
              <a:rPr sz="40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rotection of natural resources</a:t>
            </a:r>
            <a:br>
              <a:rPr sz="40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some, save so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Use none, save 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33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50 Forest Preserves, 5 National Park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089080" y="2378160"/>
            <a:ext cx="4965840" cy="2471400"/>
            <a:chOff x="2089080" y="2378160"/>
            <a:chExt cx="4965840" cy="2471400"/>
          </a:xfrm>
        </p:grpSpPr>
        <p:sp>
          <p:nvSpPr>
            <p:cNvPr id="137" name=""/>
            <p:cNvSpPr/>
            <p:nvPr/>
          </p:nvSpPr>
          <p:spPr>
            <a:xfrm>
              <a:off x="2089080" y="2378160"/>
              <a:ext cx="49658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089080" y="2378160"/>
              <a:ext cx="4965840" cy="2471400"/>
              <a:chOff x="2089080" y="2378160"/>
              <a:chExt cx="4965840" cy="2471400"/>
            </a:xfrm>
          </p:grpSpPr>
          <p:sp>
            <p:nvSpPr>
              <p:cNvPr id="139" name=""/>
              <p:cNvSpPr/>
              <p:nvPr/>
            </p:nvSpPr>
            <p:spPr>
              <a:xfrm>
                <a:off x="2089080" y="2378160"/>
                <a:ext cx="49658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2089080" y="2378160"/>
                <a:ext cx="2013120" cy="2471400"/>
                <a:chOff x="2089080" y="2378160"/>
                <a:chExt cx="2013120" cy="2471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089080" y="2378160"/>
                  <a:ext cx="1652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089080" y="2378160"/>
                  <a:ext cx="2013120" cy="24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ff33cc"/>
                      </a:solidFill>
                      <a:uFillTx/>
                      <a:latin typeface="Times New Roman"/>
                      <a:hlinkClick r:id="rId1"/>
                    </a:rPr>
                    <a:t>  </a:t>
                  </a:r>
                  <a:r>
                    <a:rPr b="0" lang="en-US" sz="108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eaeaea"/>
                      </a:solidFill>
                      <a:latin typeface="Times New Roman"/>
                    </a:rPr>
                    <a:t>                     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3" name="" descr="A snowy roadside view of Knife Edge Point and beyond to Montezuma Valley"/>
          <p:cNvPicPr/>
          <p:nvPr/>
        </p:nvPicPr>
        <p:blipFill>
          <a:blip r:embed="rId2"/>
          <a:stretch/>
        </p:blipFill>
        <p:spPr>
          <a:xfrm>
            <a:off x="2057400" y="3429000"/>
            <a:ext cx="6477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odore Roosevelt: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The Modern President”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" descr="Photograph:Theodore Roosevelt photographed in Colorado in 1905."/>
          <p:cNvPicPr/>
          <p:nvPr/>
        </p:nvPicPr>
        <p:blipFill>
          <a:blip r:embed="rId1"/>
          <a:stretch/>
        </p:blipFill>
        <p:spPr>
          <a:xfrm>
            <a:off x="3200400" y="1676520"/>
            <a:ext cx="3160800" cy="3485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2817720" cy="3345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89200" y="12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3760" y="303120"/>
            <a:ext cx="9144000" cy="360"/>
          </a:xfrm>
          <a:prstGeom prst="rect">
            <a:avLst/>
          </a:prstGeom>
          <a:solidFill>
            <a:srgbClr val="eaeb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019920" y="2514600"/>
            <a:ext cx="28987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he Modern President”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6</a:t>
            </a:r>
            <a:r>
              <a:rPr b="0" lang="en-US" sz="4000" spc="-1" strike="noStrike" baseline="30000">
                <a:solidFill>
                  <a:srgbClr val="ffcc66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 Pres. 1901-1909 (R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oungest president ever @ 4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ov’t responsible for citize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werful federal gov’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600200"/>
            <a:ext cx="3429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quare D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orm supported by the Roosevelt adminis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C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kins Act of 1903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ustbusting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ctr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pburn Act of 190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re Food and Drug Ac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erv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pton Sinclai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78-1968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97240" cy="4884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25480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4191120" cy="2894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91320" y="1371600"/>
            <a:ext cx="3143160" cy="4389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 everything but the squeal”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54200" y="1816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4937040" cy="386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638680" y="3048120"/>
            <a:ext cx="325764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 aimed at the public's heart, and by accident I hit it in the stomach."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936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ing Citizens &amp; Healt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t Inspection A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rict cleanliness requirements for meatpac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other form of gov’t regu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337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14600" y="3048120"/>
            <a:ext cx="539604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hool District U46</cp:lastModifiedBy>
  <dcterms:modified xsi:type="dcterms:W3CDTF">2010-10-19T16:08:41Z</dcterms:modified>
  <cp:revision>11</cp:revision>
  <dc:subject/>
  <dc:title>PowerPoint Presentation</dc:title>
</cp:coreProperties>
</file>