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C4A-5F26-4A43-8329-F518D192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C4C-D7CB-4D1A-A97E-AA9D5224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BD6-48BF-4E9A-B703-3A4C2A55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F3E-4E13-4DF9-A853-61059807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2742-9BD6-42E6-9AB8-B346E262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DBAA-91F8-430E-8C0D-2FB9F0B0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290C-8B79-40D1-A278-8E358B4C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1CE0-8CB5-4182-9319-E15A0B03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14BC-C7B2-448A-A7E4-7C13C9C7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B9F5-673E-418A-904B-77C93F42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40F5-8BFC-45A3-8F83-E4C317FD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4B8-687B-4FAE-8B1F-FCFF8030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67E9-3CC5-46E1-9B86-0D694B65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F997-FEF7-4EC8-AD13-8286A899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25C6-70C4-488E-850F-07BB5535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5559-94E0-4074-BD8A-B664BB98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6746-4D8A-44D1-88E3-09263755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805-6C52-42B0-8B37-305DD531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52B-2EB9-4CB8-895A-950D76E5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E16-522C-42FF-913D-00A0FD8D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24C-5E37-4E57-9F6B-3402DE85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14E-9AA4-4141-AC44-AA2EA5D5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8EC-BFD3-4AFC-8B62-08464D40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DA6A-6A02-4741-B846-17EA807F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700F-D883-447D-A172-2E1D7BF5145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ADB5-5B4F-402C-A05D-B33DAB1FA10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ps.gov/meve/planyourvisit/hour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banas/theodo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ddy Roosevelt’s Square De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odore Roosevelt reforms domestic agendas and 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minated selling of contaminated foods and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lled for truth in labe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21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deral Arbi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strikes threaten public well being, the federal gov’t was expected to get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helps in negotiating between management and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1523880"/>
            <a:ext cx="29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bu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osevelt believed not  all trusts were bad, only those who hurt the public interest were b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eel, oil, beef, tobacco, R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federal gov’t had the right to regulate big 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419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servation vs. Preservation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tection of natural resources</a:t>
            </a:r>
            <a:br>
              <a:rPr sz="40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ome, save so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none, save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50 Forest Preserves, 5 National Pa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89080" y="2378160"/>
            <a:ext cx="4965840" cy="2471400"/>
            <a:chOff x="2089080" y="2378160"/>
            <a:chExt cx="4965840" cy="2471400"/>
          </a:xfrm>
        </p:grpSpPr>
        <p:sp>
          <p:nvSpPr>
            <p:cNvPr id="137" name=""/>
            <p:cNvSpPr/>
            <p:nvPr/>
          </p:nvSpPr>
          <p:spPr>
            <a:xfrm>
              <a:off x="2089080" y="2378160"/>
              <a:ext cx="4965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89080" y="2378160"/>
              <a:ext cx="4965840" cy="2471400"/>
              <a:chOff x="2089080" y="2378160"/>
              <a:chExt cx="4965840" cy="2471400"/>
            </a:xfrm>
          </p:grpSpPr>
          <p:sp>
            <p:nvSpPr>
              <p:cNvPr id="139" name=""/>
              <p:cNvSpPr/>
              <p:nvPr/>
            </p:nvSpPr>
            <p:spPr>
              <a:xfrm>
                <a:off x="2089080" y="2378160"/>
                <a:ext cx="4965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89080" y="2378160"/>
                <a:ext cx="2013120" cy="2471400"/>
                <a:chOff x="2089080" y="2378160"/>
                <a:chExt cx="2013120" cy="2471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089080" y="2378160"/>
                  <a:ext cx="165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89080" y="2378160"/>
                  <a:ext cx="2013120" cy="24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33cc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08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                     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3" name="" descr="A snowy roadside view of Knife Edge Point and beyond to Montezuma Valley"/>
          <p:cNvPicPr/>
          <p:nvPr/>
        </p:nvPicPr>
        <p:blipFill>
          <a:blip r:embed="rId2"/>
          <a:stretch/>
        </p:blipFill>
        <p:spPr>
          <a:xfrm>
            <a:off x="2057400" y="3429000"/>
            <a:ext cx="6477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3200400" y="1676520"/>
            <a:ext cx="3160800" cy="34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2817720" cy="334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19920" y="2514600"/>
            <a:ext cx="289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Modern President”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6</a:t>
            </a:r>
            <a:r>
              <a:rPr b="0" lang="en-US" sz="40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es. 1901-1909 (R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ngest president ever @ 4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responsible for citiz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werful federal gov’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quare D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orm supported by the Roosevelt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C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kins Act of 190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bust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pburn Act of 19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ton Sinclai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78-196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97240" cy="488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548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143160" cy="4389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everything but the squ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54200" y="1816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937040" cy="386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57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 aimed at the public's heart, and by accident I hit it in the stomach."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93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ct cleanliness requirements for meatpac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form of gov’t reg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53960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19T16:08:41Z</dcterms:modified>
  <cp:revision>11</cp:revision>
  <dc:subject/>
  <dc:title>PowerPoint Presentation</dc:title>
</cp:coreProperties>
</file>