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C3AD-3844-4831-87A2-B97C4687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D5DF-CF30-42E7-947B-562D00C3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60C5-A601-4FDB-B9E2-CE0D83A1D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0934-C1D7-48E8-88C1-73832CEC4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AA3A-9DEB-4E28-8A73-60105BAEB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EE16-B028-43F5-94E9-30AA9E02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E260-5D0B-42EB-82D3-99A9E348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42C0-928D-4770-866E-3914AC68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3272-0088-493E-A75B-315BF03D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6036-7259-4330-9377-3C9052BC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47F6-323D-4091-9D24-B8A3CB7B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92D9-EBC0-48ED-B5D2-C7533C12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A195-6D42-46B6-900D-4F2705A6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8CE4-3A16-487C-A8BD-485BDE60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DF79-9640-46DB-9609-BA4BD5E1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7723-726A-4408-9D19-B25039DE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0D2B-DC9E-49BD-A6D9-55A699963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DAE6-5DC1-4CA8-B859-EEF7EADB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721F-84CF-463F-82B5-98B679F9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AA17-C099-41B3-9621-8A7DBFB1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32A8-999B-4ACF-8F2E-DEC44408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BB33-CA1E-4B72-AB84-FD25BF21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DC37-3250-4033-B61A-1A7741F9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2310-ECF3-4C99-B1B4-724AF7C4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5868-B866-44FC-8B88-011B6135151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9165-F8CA-43C8-9654-7B7FC2D51D5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ps.gov/meve/planyourvisit/hours.htm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csu.buffalo.edu/~mdbanas/theodore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ddy Roosevelt’s Square De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Theodore Roosevelt reforms domestic agendas and 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tecting Citizens &amp; Heal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re Food and Drug A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liminated selling of contaminated foods and medic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so called for truth in label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52116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ederal Arbitr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en strikes threaten public well being, the federal gov’t was expected to get involv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ov’t helps in negotiating between management and work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57880" y="1523880"/>
            <a:ext cx="2959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stbus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oosevelt believed not  all trusts were bad, only those who hurt the public interest were b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eel, oil, beef, tobacco, R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lieved federal gov’t had the right to regulate big busin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50000" y="1600200"/>
            <a:ext cx="419400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nservation vs. Preservation</a:t>
            </a:r>
            <a:br>
              <a:rPr sz="40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Protection of natural resources</a:t>
            </a:r>
            <a:br>
              <a:rPr sz="40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serv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some, save som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eserv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none, save a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33376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50 Forest Preserves, 5 National Par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089080" y="2378160"/>
            <a:ext cx="4965840" cy="2471400"/>
            <a:chOff x="2089080" y="2378160"/>
            <a:chExt cx="4965840" cy="2471400"/>
          </a:xfrm>
        </p:grpSpPr>
        <p:sp>
          <p:nvSpPr>
            <p:cNvPr id="137" name=""/>
            <p:cNvSpPr/>
            <p:nvPr/>
          </p:nvSpPr>
          <p:spPr>
            <a:xfrm>
              <a:off x="2089080" y="2378160"/>
              <a:ext cx="49658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2089080" y="2378160"/>
              <a:ext cx="4965840" cy="2471400"/>
              <a:chOff x="2089080" y="2378160"/>
              <a:chExt cx="4965840" cy="2471400"/>
            </a:xfrm>
          </p:grpSpPr>
          <p:sp>
            <p:nvSpPr>
              <p:cNvPr id="139" name=""/>
              <p:cNvSpPr/>
              <p:nvPr/>
            </p:nvSpPr>
            <p:spPr>
              <a:xfrm>
                <a:off x="2089080" y="2378160"/>
                <a:ext cx="49658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2089080" y="2378160"/>
                <a:ext cx="2013120" cy="2471400"/>
                <a:chOff x="2089080" y="2378160"/>
                <a:chExt cx="2013120" cy="24714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2089080" y="2378160"/>
                  <a:ext cx="1652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089080" y="2378160"/>
                  <a:ext cx="2013120" cy="247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ff33cc"/>
                      </a:solidFill>
                      <a:uFillTx/>
                      <a:latin typeface="Times New Roman"/>
                      <a:hlinkClick r:id="rId1"/>
                    </a:rPr>
                    <a:t>  </a:t>
                  </a:r>
                  <a:r>
                    <a:rPr b="0" lang="en-US" sz="10800" spc="-1" strike="noStrike">
                      <a:solidFill>
                        <a:srgbClr val="eaeaea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eaeaea"/>
                      </a:solidFill>
                      <a:latin typeface="Times New Roman"/>
                    </a:rPr>
                    <a:t>                     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43" name="" descr="A snowy roadside view of Knife Edge Point and beyond to Montezuma Valley"/>
          <p:cNvPicPr/>
          <p:nvPr/>
        </p:nvPicPr>
        <p:blipFill>
          <a:blip r:embed="rId2"/>
          <a:stretch/>
        </p:blipFill>
        <p:spPr>
          <a:xfrm>
            <a:off x="2057400" y="3429000"/>
            <a:ext cx="647712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odore Roosevelt: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“The Modern President”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3" name="" descr="Photograph:Theodore Roosevelt photographed in Colorado in 1905."/>
          <p:cNvPicPr/>
          <p:nvPr/>
        </p:nvPicPr>
        <p:blipFill>
          <a:blip r:embed="rId1"/>
          <a:stretch/>
        </p:blipFill>
        <p:spPr>
          <a:xfrm>
            <a:off x="3200400" y="1676520"/>
            <a:ext cx="3160800" cy="3485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3520" y="3124080"/>
            <a:ext cx="2817720" cy="3345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689200" y="12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23760" y="303120"/>
            <a:ext cx="9144000" cy="360"/>
          </a:xfrm>
          <a:prstGeom prst="rect">
            <a:avLst/>
          </a:prstGeom>
          <a:solidFill>
            <a:srgbClr val="eaeb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019920" y="2514600"/>
            <a:ext cx="289872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Modern President”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26</a:t>
            </a:r>
            <a:r>
              <a:rPr b="0" lang="en-US" sz="4000" spc="-1" strike="noStrike" baseline="30000">
                <a:solidFill>
                  <a:srgbClr val="ffcc66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 Pres. 1901-1909 (R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oungest president ever @ 4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ov’t responsible for citize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werful federal gov’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1600200"/>
            <a:ext cx="342900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quare Deal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form supported by the Roosevelt administ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C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lkins Act of 1903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ustbusting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pburn Act of 1906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re Food and Drug Ac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erv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at inspection A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pton Sinclair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878-1968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3297240" cy="4884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981080" y="1905120"/>
            <a:ext cx="254808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4191120" cy="2894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91320" y="1371600"/>
            <a:ext cx="3143160" cy="43894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e everything but the squeal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554200" y="18162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4937040" cy="3864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638680" y="3048120"/>
            <a:ext cx="325764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I aimed at the public's heart, and by accident I hit it in the stomach."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3936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tecting Citizens &amp; Heal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at Inspection A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rict cleanliness requirements for meatpack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other form of gov’t regul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337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14600" y="3048120"/>
            <a:ext cx="539604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0-10-19T16:08:41Z</dcterms:modified>
  <cp:revision>11</cp:revision>
  <dc:subject/>
  <dc:title>PowerPoint Presentation</dc:title>
</cp:coreProperties>
</file>