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D6BE-684A-4A9D-8D17-133F2E0C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450144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6AC3-43EE-4305-A75E-C81BBD91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256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460F-B2EA-44FE-B5D4-98AE48E8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50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78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50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78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30F2-8516-4E62-B04E-3CDA1FA13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E199-6F80-455A-87C5-17AF02E1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F2AA-9382-4208-830D-F1ACE72D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684D-D953-42C1-9D29-7D1B0ECE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CA15-E708-4E42-A426-66B0855E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0E57-EA67-4843-969F-460260AC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763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FE1D-9D85-4137-939C-E43CF916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CDEC-2E20-45E0-B0C9-08402F9E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0C9A-BC14-4349-80D8-1C889FB7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256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2CEB-EFB2-4E56-A76C-9322E140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F8CA-8DC2-42B5-96C2-622B2762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280" y="450144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E51F-FC55-446F-82D4-5A15ADA3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256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D705-F704-441A-84E7-751A03A7A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150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7880" y="259092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2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150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7880" y="4501440"/>
            <a:ext cx="28213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9885-CB2F-4D19-B716-F43627FB8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1DC4-05E2-4B73-89C5-40127796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DC96-1F2F-4FB7-BE3A-4E54F907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909A-1FDB-44F6-A87A-2678B1E2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1600200"/>
            <a:ext cx="87631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C210-5416-49E8-9FB5-85AF5ABA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4471-3133-4229-B817-DD985A61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2560" y="450144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B8DE-D42B-4F83-8BE3-C2FE0AE3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2560" y="2590920"/>
            <a:ext cx="427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4501440"/>
            <a:ext cx="87631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2A65-D2B2-49AE-9497-81CCB379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c24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565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565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565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565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5654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5654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5654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8195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1936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AEFF-BE0C-4D91-8019-186B20B7AFFA}" type="slidenum"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4266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c24"/>
                </a:solidFill>
                <a:latin typeface="Arial Black"/>
              </a:rPr>
              <a:t>Click to edit the title text format</a:t>
            </a:r>
            <a:endParaRPr b="0" lang="en-US" sz="34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17220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654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D3C1-EC04-46B8-8D6E-FB4C11DE1824}" type="slidenum">
              <a:rPr b="0" lang="en-US" sz="1000" spc="-1" strike="noStrike">
                <a:solidFill>
                  <a:srgbClr val="5654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4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4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654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4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654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654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54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654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654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54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654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5654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54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654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5654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54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org/wiki/Image:McCluresCoverJan1901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4266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14c24"/>
                </a:solidFill>
                <a:latin typeface="Arial Black"/>
              </a:rPr>
              <a:t>Progressivism</a:t>
            </a:r>
            <a:endParaRPr b="0" lang="en-US" sz="34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600" y="5562720"/>
            <a:ext cx="86868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400"/>
                </a:solidFill>
                <a:latin typeface="Arial"/>
              </a:rPr>
              <a:t>Changing America politically, economically, &amp; socially/morally</a:t>
            </a:r>
            <a:endParaRPr b="0" lang="en-US" sz="24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5400"/>
                </a:solidFill>
                <a:latin typeface="Arial"/>
              </a:rPr>
              <a:t>Progress</a:t>
            </a: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: a forward or onward movement; as to an objective or to a goa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5400"/>
                </a:solidFill>
                <a:latin typeface="Arial"/>
              </a:rPr>
              <a:t>Reform:</a:t>
            </a: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 to  change into an improved form or condition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c24"/>
                </a:solidFill>
                <a:latin typeface="Arial Black"/>
              </a:rPr>
              <a:t>Goals of the Progressive Movement</a:t>
            </a:r>
            <a:endParaRPr b="0" lang="en-US" sz="32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654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To return control of government to the people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654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Restore economic opportunities for all groups of people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654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Correct injustices in American life for all groups of people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c24"/>
                </a:solidFill>
                <a:latin typeface="Arial Black"/>
              </a:rPr>
              <a:t>How do we reach our goals?</a:t>
            </a: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65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By using science and technology.  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565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For example the assembly line = efficiency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(research used)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c24"/>
                </a:solidFill>
                <a:latin typeface="Arial Black"/>
              </a:rPr>
              <a:t>1.  Restoring Economic Opportunities</a:t>
            </a:r>
            <a:r>
              <a:rPr b="0" lang="en-US" sz="3600" spc="-1" strike="noStrike">
                <a:solidFill>
                  <a:srgbClr val="414c24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4305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65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400"/>
                </a:solidFill>
                <a:latin typeface="Arial"/>
              </a:rPr>
              <a:t>Muckrakers</a:t>
            </a: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65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400"/>
                </a:solidFill>
                <a:latin typeface="Arial"/>
              </a:rPr>
              <a:t>Journalists who wrote about corrupt business practices and politicians</a:t>
            </a:r>
            <a:endParaRPr b="0" lang="en-US" sz="2400" spc="-1" strike="noStrike">
              <a:solidFill>
                <a:srgbClr val="5654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654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400"/>
                </a:solidFill>
                <a:latin typeface="Arial"/>
              </a:rPr>
              <a:t>Jacob Riis, Ida B. Wells Upton Sinclair</a:t>
            </a:r>
            <a:endParaRPr b="0" lang="en-US" sz="2400" spc="-1" strike="noStrike">
              <a:solidFill>
                <a:srgbClr val="565400"/>
              </a:solidFill>
              <a:latin typeface="Arial"/>
            </a:endParaRPr>
          </a:p>
        </p:txBody>
      </p:sp>
      <p:pic>
        <p:nvPicPr>
          <p:cNvPr id="92" name="" descr="McClure's Magazine (cover, Jan, 1901) published many early muckraker articles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10080" y="2514600"/>
            <a:ext cx="28800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c24"/>
                </a:solidFill>
                <a:latin typeface="Arial Black"/>
              </a:rPr>
              <a:t>2.  Reforming Govt (returning control to the people)</a:t>
            </a:r>
            <a:endParaRPr b="0" lang="en-US" sz="32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a.  Make govt efficient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400"/>
                </a:solidFill>
                <a:latin typeface="Arial"/>
              </a:rPr>
              <a:t>i. Gov’t divided into several departments</a:t>
            </a: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400"/>
                </a:solidFill>
                <a:latin typeface="Arial"/>
              </a:rPr>
              <a:t>iii. Easier to manage</a:t>
            </a:r>
            <a:endParaRPr b="0" lang="en-US" sz="2800" spc="-1" strike="noStrike">
              <a:solidFill>
                <a:srgbClr val="5654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65400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Changes in the election process to allow the people to get more involved…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14c24"/>
                </a:solidFill>
                <a:latin typeface="Arial Black"/>
              </a:rPr>
              <a:t>2.  Reforming Govt (returning control to the people)</a:t>
            </a:r>
            <a:endParaRPr b="0" lang="en-US" sz="32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b.  Direct primary – people for a candidate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c.  Initiative – citizens could initiate new laws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d.  Referendum- people vote on new laws w/o going to house legislatures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e.  Recall – could vote out an elected official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f.  17</a:t>
            </a:r>
            <a:r>
              <a:rPr b="0" lang="en-US" sz="3200" spc="-1" strike="noStrike" baseline="30000">
                <a:solidFill>
                  <a:srgbClr val="5654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565400"/>
                </a:solidFill>
                <a:latin typeface="Arial"/>
              </a:rPr>
              <a:t> Amendment – direct voting for senators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14c24"/>
                </a:solidFill>
                <a:latin typeface="Arial Black"/>
              </a:rPr>
              <a:t>3</a:t>
            </a:r>
            <a:r>
              <a:rPr b="0" lang="en-US" sz="3200" spc="-1" strike="noStrike">
                <a:solidFill>
                  <a:srgbClr val="414c24"/>
                </a:solidFill>
                <a:latin typeface="Times New Roman"/>
              </a:rPr>
              <a:t>. Restoring society (correcting injustices)</a:t>
            </a:r>
            <a:r>
              <a:rPr b="0" lang="en-US" sz="3600" spc="-1" strike="noStrike">
                <a:solidFill>
                  <a:srgbClr val="414c24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414c24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280" y="25909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654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Times New Roman"/>
              </a:rPr>
              <a:t>Min. age and hours for children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654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Times New Roman"/>
              </a:rPr>
              <a:t>Compensation benefits,better working conditions, and hrs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5654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400"/>
                </a:solidFill>
                <a:latin typeface="Times New Roman"/>
              </a:rPr>
              <a:t>Women’s Christian Temperance Union – pushed for prohibition</a:t>
            </a: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4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6:27:49Z</dcterms:created>
  <dc:creator>School District U46</dc:creator>
  <dc:description/>
  <cp:keywords/>
  <dc:language>en-US</dc:language>
  <cp:lastModifiedBy>School District U46</cp:lastModifiedBy>
  <dcterms:modified xsi:type="dcterms:W3CDTF">2010-10-19T17:13:50Z</dcterms:modified>
  <cp:revision>16</cp:revision>
  <dc:subject/>
  <dc:title>Progressivis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51033</vt:lpwstr>
  </property>
</Properties>
</file>