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E85-AF59-4003-997C-222D4D4A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BFC-F787-4DAA-A9EC-82B60151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3B8-3A2B-48F0-BAE7-1F0364C2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C28-4FA0-4E08-8FB3-88B4E92E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D90-09F1-4956-9216-622F993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39A-3673-4E40-8C4C-48A8CB97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773-7D85-4F02-A6DD-F39E4281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144-FCF5-44DA-B0CD-59D002A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A2A-D05F-477A-AF6B-6F11FC9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CE6-4622-45B0-93F6-59F3027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831-3AAB-4E4B-8CDB-12C8E29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2BB-854F-4FFF-85CD-041C3B7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D73-ABA0-4F69-BA43-C6B827029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S History 7.1 qui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ctober 27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why the US felt they needed to expand markets over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the purpose of building up the US N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how anglo-saxonism plays into imperi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27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