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7D52-476A-4820-B6EB-8FFE72C9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AAF-69E5-4D52-97D1-4DDE10E8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CF6-8E45-4342-8313-A066F3DF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520-5567-406D-8339-248CB4CC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9D4-1FEF-4013-BD51-36C4F7C5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E0E-8955-4636-BC73-C910CE4B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367-D0B6-43EA-AA46-F953EE6B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BDD-93CE-453A-A5BC-B3EDB82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1B3-D7D7-458E-AE56-A622A84D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9E2-2F16-4998-9B4A-7CAE5E12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3CE-726C-4484-9A1D-D4E027D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517-52D3-4F0B-82AF-32AD87F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FF1B-9BC1-4A2F-A342-EB1325BC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US History 7.1 qui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굴림"/>
              </a:rPr>
              <a:t>October 27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why the US felt they needed to expand markets overs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the purpose of building up the US Nav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Explain how anglo-saxonism plays into imperi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27T15:00:3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