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FF66-0FB6-4D89-942F-057261FBC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35D3-BB38-49D2-B92D-FD3E222E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DAB5-2AC0-4EBF-863A-6493E4B2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AE41-9FCA-4E1A-8708-A88B3CBA5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B4C0-C135-424B-8F8F-AE0730CF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6B76-868E-4867-9B09-0311D395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CFFC-FBDF-4F16-B381-5E20A9AE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1CFC-DF62-45C7-A761-A9FAFD80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3AE4-800D-49B4-B4BF-3DDE1A5A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0AFE-647A-4E68-8D48-3EC5E477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3EBF-92C5-4390-BBEA-4D250674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7735-F845-4A9B-98C6-BC3ED4BF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9167-5463-4FD4-8855-A9284BF3E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US History 7.1 quiz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October 27, 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Explain why the US felt they needed to expand markets overs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Explain the purpose of building up the US Nav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Explain how anglo-saxonism plays into imperial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0-10-27T15:00:3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