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AA4-571D-45EF-9F26-465A8186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AA0-F005-424E-AEDF-F1C60AB0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6FE-FFAE-44DD-B961-314E0328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9FC8-7099-47C6-B1BD-9E001E81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E8B-1E32-4DBF-93C3-1B420661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B4E-A398-43E7-B947-53DFFA22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B1E-53D3-4A80-AB41-02254DCC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6CC-6854-470A-834D-D8B45CD7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34DE-1C4C-4176-874D-9EC725B5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F8B-7515-4ECF-A668-88F5E65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97A-4C0A-47EF-A2AE-C6DA76A4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3B9-D957-4FB4-88AE-8585AE49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913-D3AE-4CC3-A177-1E6A049D5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S History 7.1 qui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ctober 27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why the US felt they needed to expand markets over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the purpose of building up the US N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how anglo-saxonism plays into imperi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27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