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1912-9718-47B8-84D7-EAE45001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499C-AF9E-422D-B97F-8D49B721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2469-68D3-4099-B195-821C5774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5DBB-FDB2-4B4D-8B18-7DC9A5A85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C9D5-4B10-4052-AE53-1367F53C8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EF23-CF32-4D5B-AA74-719FBDAE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24BE-7217-4C71-AA7D-ADB58ED4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00D5-BC26-403C-A8D3-04F2E1A8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3919-7678-4F76-A09F-2DA507FD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0D6E-C561-43B9-88F1-4F70DF9A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677C-4425-4F56-B900-57D047C9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C8F8-30F0-44B0-B7C5-2A33B511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8A1C-A523-4F27-A618-63D6981F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59F3-5B51-4965-8826-29DE296D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CA6E-468A-44F6-B306-639D6E1A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BCBC-CC8D-4D8B-8E20-1B10B525B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9C0E-2F8B-488F-924D-90AD92A6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6651-CDD9-4FB6-B82C-9ACF7DCB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0DEF-EF0A-4DBA-BF95-99212AAF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5DE3-AE85-4237-AC1F-E9D8B585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2625-39F3-483A-A91C-B21C3A8C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935E-402A-4427-9800-68927D62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1FE6-AEFB-41C8-AC63-6857681B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C53E-C70F-42C3-B1EB-C2E487EC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9DFA-4616-4B8E-8446-CE3FC41B61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8CE0-942F-4EDF-A543-EA3967E2E1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Carl_bernstein_2007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MarkFelt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Watergat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s June 17, 1972 and ends with the resignation of the president Aug 9, 19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ixon wins the election by a landslide – break-in unnecessary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3127" t="9376" r="0" b="6251"/>
          <a:stretch/>
        </p:blipFill>
        <p:spPr>
          <a:xfrm>
            <a:off x="990720" y="1600200"/>
            <a:ext cx="754380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Cover-Up Unrave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Dean testif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icated Pres. Nixon and the Attorney General John Mitch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xander Butterfield reveals that conversations in oval office recor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xon refuses to hand over tapes based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utive privile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o protect national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butterfield" descr="Alexander Butterfield"/>
          <p:cNvPicPr/>
          <p:nvPr/>
        </p:nvPicPr>
        <p:blipFill>
          <a:blip r:embed="rId1"/>
          <a:stretch/>
        </p:blipFill>
        <p:spPr>
          <a:xfrm>
            <a:off x="5181480" y="4038480"/>
            <a:ext cx="3638520" cy="2562480"/>
          </a:xfrm>
          <a:prstGeom prst="rect">
            <a:avLst/>
          </a:prstGeom>
          <a:ln w="0">
            <a:noFill/>
          </a:ln>
        </p:spPr>
      </p:pic>
      <p:pic>
        <p:nvPicPr>
          <p:cNvPr id="142" name="john-dean" descr=""/>
          <p:cNvPicPr/>
          <p:nvPr/>
        </p:nvPicPr>
        <p:blipFill>
          <a:blip r:embed="rId2"/>
          <a:stretch/>
        </p:blipFill>
        <p:spPr>
          <a:xfrm>
            <a:off x="5334120" y="1447920"/>
            <a:ext cx="2971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“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aturday Night Massacre”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’t attorney appointed by president to handle Watergate cases (Oct. ’7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s Nixon to court to release t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xon wants him fired; no one wants to fire him so they (2) resign; eventually gets fire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urday Night Massac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xon’s reputation dama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ll ’73 V.P. Spiro Agnew resigns for taking bribes as gov. of MD.= Gerald Ford new V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bald C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Prose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129360" y="0"/>
            <a:ext cx="360" cy="360"/>
            <a:chOff x="6129360" y="0"/>
            <a:chExt cx="360" cy="360"/>
          </a:xfrm>
        </p:grpSpPr>
        <p:sp>
          <p:nvSpPr>
            <p:cNvPr id="147" name=""/>
            <p:cNvSpPr/>
            <p:nvPr/>
          </p:nvSpPr>
          <p:spPr>
            <a:xfrm>
              <a:off x="6129360" y="0"/>
              <a:ext cx="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29360" y="0"/>
              <a:ext cx="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28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a999archibaldcox_2050081722-23125" descr="Archibald Cox."/>
          <p:cNvPicPr/>
          <p:nvPr/>
        </p:nvPicPr>
        <p:blipFill>
          <a:blip r:embed="rId1"/>
          <a:stretch/>
        </p:blipFill>
        <p:spPr>
          <a:xfrm>
            <a:off x="5181480" y="1676520"/>
            <a:ext cx="31244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. R. Haldema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ef of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’s right hand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383600" y="0"/>
            <a:ext cx="1760400" cy="28465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H. R. Haldeman"/>
          <p:cNvPicPr/>
          <p:nvPr/>
        </p:nvPicPr>
        <p:blipFill>
          <a:blip r:embed="rId2"/>
          <a:stretch/>
        </p:blipFill>
        <p:spPr>
          <a:xfrm>
            <a:off x="4419720" y="2362320"/>
            <a:ext cx="2985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mpeachment Proceeding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es finally turned over and show evidence that Nixon was involve in cover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 Judiciary Committee vote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mpea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harge with a crime- the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xon resigns before impe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ald Ford new president Aug 9, 19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fordportrait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309888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esident Nixon’s Last Da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File:Nixon-depart.png"/>
          <p:cNvPicPr/>
          <p:nvPr/>
        </p:nvPicPr>
        <p:blipFill>
          <a:blip r:embed="rId1"/>
          <a:stretch/>
        </p:blipFill>
        <p:spPr>
          <a:xfrm>
            <a:off x="2438280" y="1600200"/>
            <a:ext cx="470232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atergate Impac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rd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xon – cannot ever be prosecuted for cr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s distrust of government and politicians continue to de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ay our judicial system works because no one is above the law, to include the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washingtonpost.com/wp-dyn/content/article/2007/06/13/AR2007061301867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Woodward and Bernstein"/>
          <p:cNvPicPr/>
          <p:nvPr/>
        </p:nvPicPr>
        <p:blipFill>
          <a:blip r:embed="rId1"/>
          <a:stretch/>
        </p:blipFill>
        <p:spPr>
          <a:xfrm>
            <a:off x="1295280" y="1752480"/>
            <a:ext cx="6858000" cy="4872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33"/>
                </a:solidFill>
                <a:latin typeface="Times New Roman"/>
              </a:rPr>
              <a:t>Washington Post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reporters who followed the court case of the burglars and realized there may be a White House connection when one of the burglars reported being a retired CIA agent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arl Bernstei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1600200"/>
            <a:ext cx="3487680" cy="4495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990720" y="1600200"/>
            <a:ext cx="2957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ob Woodwar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376800" cy="4776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Bob Woodward on &quot;Meet The Press&quot;"/>
          <p:cNvPicPr/>
          <p:nvPr/>
        </p:nvPicPr>
        <p:blipFill>
          <a:blip r:embed="rId2"/>
          <a:stretch/>
        </p:blipFill>
        <p:spPr>
          <a:xfrm>
            <a:off x="4997520" y="1676520"/>
            <a:ext cx="344304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en Bradle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s as vice president to the Washington Post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revealing the Pentagon 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2703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erstein, Bradlee, &amp; Woodwar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Carl Bernstein, Ben Bradlee, Bob Woodward"/>
          <p:cNvPicPr/>
          <p:nvPr/>
        </p:nvPicPr>
        <p:blipFill>
          <a:blip r:embed="rId1"/>
          <a:stretch/>
        </p:blipFill>
        <p:spPr>
          <a:xfrm>
            <a:off x="1143000" y="1676520"/>
            <a:ext cx="685800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10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xon’s paranoia may have contributed to his participation in the burglary and cover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t people were against him = “enemies list”- those considered threat to his presid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6250" t="6251" r="0" b="6251"/>
          <a:stretch/>
        </p:blipFill>
        <p:spPr>
          <a:xfrm>
            <a:off x="4724280" y="2095560"/>
            <a:ext cx="441972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Cover-Up Begi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es McCord, one of the burglars was an ex-CIA agent and member of C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glars paid from CRP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xon orders cover-up; false testimony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Felt giving info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o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es Mc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482920" y="2664000"/>
            <a:ext cx="4179960" cy="1509480"/>
            <a:chOff x="2482920" y="2664000"/>
            <a:chExt cx="4179960" cy="1509480"/>
          </a:xfrm>
        </p:grpSpPr>
        <p:sp>
          <p:nvSpPr>
            <p:cNvPr id="126" name=""/>
            <p:cNvSpPr/>
            <p:nvPr/>
          </p:nvSpPr>
          <p:spPr>
            <a:xfrm>
              <a:off x="2482920" y="2664000"/>
              <a:ext cx="4179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2482920" y="2664000"/>
              <a:ext cx="3098880" cy="1509480"/>
              <a:chOff x="2482920" y="2664000"/>
              <a:chExt cx="3098880" cy="1509480"/>
            </a:xfrm>
          </p:grpSpPr>
          <p:sp>
            <p:nvSpPr>
              <p:cNvPr id="128" name=""/>
              <p:cNvSpPr/>
              <p:nvPr/>
            </p:nvSpPr>
            <p:spPr>
              <a:xfrm>
                <a:off x="2482920" y="2664000"/>
                <a:ext cx="3098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482920" y="2664000"/>
                <a:ext cx="1525680" cy="15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9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0" name="jamesMcCord" descr=""/>
          <p:cNvPicPr/>
          <p:nvPr/>
        </p:nvPicPr>
        <p:blipFill>
          <a:blip r:embed="rId1"/>
          <a:stretch/>
        </p:blipFill>
        <p:spPr>
          <a:xfrm>
            <a:off x="5715000" y="1676520"/>
            <a:ext cx="23954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illiam Mark Fel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bed “deep throat” by Bernstein and Wood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BI Agent Whistle-blo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aled in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: Dec.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762120"/>
            <a:ext cx="2381400" cy="2638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Mark Felt - Deep Throat"/>
          <p:cNvPicPr/>
          <p:nvPr/>
        </p:nvPicPr>
        <p:blipFill>
          <a:blip r:embed="rId3"/>
          <a:stretch/>
        </p:blipFill>
        <p:spPr>
          <a:xfrm>
            <a:off x="3962520" y="3276720"/>
            <a:ext cx="26557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0-05-20T02:21:2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