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454-EFB4-4B1B-9C46-782A68F1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E46-072D-4A9D-B1C4-D0457DF6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17B-0E56-415C-8302-83B1DD01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426-5E9A-41F8-A664-98080BDB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26DE-1510-4700-9F56-B20EF069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322D-65AE-4E9B-8C84-724A2942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7A70-E8F8-4419-AF7F-DEF37586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223E-50D6-4D5B-9A2E-17CD76B3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D1AA-8205-4538-A41E-2CC09325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1CCA-DFBD-4292-96EC-D49EAC44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2649-A7EF-4D46-B4D4-F59205E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0A0-4699-4000-9BB6-5F4F5229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9028-8CF3-4884-B37D-B20D163F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1A56-B73E-457B-9688-0C65150E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97F9-05D0-4D17-BD14-BFBE7D44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7A7D-08EF-4615-87D6-CDA1AA47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8324-6E65-402E-8B7D-F192B167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2F0-DF43-42E2-B8BA-88AA9A12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011-C8D5-4DEC-A174-EC027B68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50F-9F0A-4258-843D-4BAD2E9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7D8-3DDF-4BAE-84C7-4C8592AD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303-B1B0-4ACE-96D4-466F3F4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514-D861-46F7-9638-6DC2DC0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C5B-95CD-4529-B831-3DB69EFE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F05C-6D2D-4108-B03A-C29DAC1BB5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20E4-CEF3-4CF6-AB1A-B7FA09D403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rl_bernstein_200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Felt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atergat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June 17, 1972 and ends with the resignation of the president Aug 9,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 wins the election by a landslide – break-in unnecessary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990720" y="1600200"/>
            <a:ext cx="75438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Unrav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Dean test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ed Pres. Nixon and the Attorney General John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Butterfield reveals that conversations in oval office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refuses to hand over tapes bas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utive privi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 protect nationa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utterfield" descr="Alexander Butterfield"/>
          <p:cNvPicPr/>
          <p:nvPr/>
        </p:nvPicPr>
        <p:blipFill>
          <a:blip r:embed="rId1"/>
          <a:stretch/>
        </p:blipFill>
        <p:spPr>
          <a:xfrm>
            <a:off x="5181480" y="4038480"/>
            <a:ext cx="3638520" cy="2562480"/>
          </a:xfrm>
          <a:prstGeom prst="rect">
            <a:avLst/>
          </a:prstGeom>
          <a:ln w="0">
            <a:noFill/>
          </a:ln>
        </p:spPr>
      </p:pic>
      <p:pic>
        <p:nvPicPr>
          <p:cNvPr id="142" name="john-dean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aturday Night Massacre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attorney appointed by president to handle Watergate cases (Oct. ’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Nixon to court to release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wants him fired; no one wants to fire him so they (2) resign; eventually gets fire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 Night Massac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’s reputation dam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 ’73 V.P. Spiro Agnew resigns for taking bribes as gov. of MD.= Gerald Ford new 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bald C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ros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29360" y="0"/>
            <a:ext cx="360" cy="360"/>
            <a:chOff x="6129360" y="0"/>
            <a:chExt cx="360" cy="360"/>
          </a:xfrm>
        </p:grpSpPr>
        <p:sp>
          <p:nvSpPr>
            <p:cNvPr id="147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28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a999archibaldcox_2050081722-23125" descr="Archibald Cox."/>
          <p:cNvPicPr/>
          <p:nvPr/>
        </p:nvPicPr>
        <p:blipFill>
          <a:blip r:embed="rId1"/>
          <a:stretch/>
        </p:blipFill>
        <p:spPr>
          <a:xfrm>
            <a:off x="5181480" y="16765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. R. Haldem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right hand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3600" y="0"/>
            <a:ext cx="1760400" cy="284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H. R. Haldeman"/>
          <p:cNvPicPr/>
          <p:nvPr/>
        </p:nvPicPr>
        <p:blipFill>
          <a:blip r:embed="rId2"/>
          <a:stretch/>
        </p:blipFill>
        <p:spPr>
          <a:xfrm>
            <a:off x="4419720" y="2362320"/>
            <a:ext cx="298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eachment Procee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s finally turned over and show evidence that Nixon was involve in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Judiciary Committee vot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arge with a crime-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resigns before imp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Ford new president Aug 9,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fordportrait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988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 Nixon’s Last D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File:Nixon-depart.png"/>
          <p:cNvPicPr/>
          <p:nvPr/>
        </p:nvPicPr>
        <p:blipFill>
          <a:blip r:embed="rId1"/>
          <a:stretch/>
        </p:blipFill>
        <p:spPr>
          <a:xfrm>
            <a:off x="2438280" y="1600200"/>
            <a:ext cx="47023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tergate Imp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d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xon – cannot ever be prosecuted for cr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distrust of government and politicians continue to de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y our judicial system works because no one is above the law, to include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washingtonpost.com/wp-dyn/content/article/2007/06/13/AR200706130186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Woodward and Bernstein"/>
          <p:cNvPicPr/>
          <p:nvPr/>
        </p:nvPicPr>
        <p:blipFill>
          <a:blip r:embed="rId1"/>
          <a:stretch/>
        </p:blipFill>
        <p:spPr>
          <a:xfrm>
            <a:off x="1295280" y="1752480"/>
            <a:ext cx="6858000" cy="487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Washington Post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reporters who followed the court case of the burglars and realized there may be a White House connection when one of the burglars reported being a retired CIA ag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rl Bernste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00200"/>
            <a:ext cx="348768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2957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ob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76800" cy="477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Bob Woodward on &quot;Meet The Press&quot;"/>
          <p:cNvPicPr/>
          <p:nvPr/>
        </p:nvPicPr>
        <p:blipFill>
          <a:blip r:embed="rId2"/>
          <a:stretch/>
        </p:blipFill>
        <p:spPr>
          <a:xfrm>
            <a:off x="4997520" y="1676520"/>
            <a:ext cx="34430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n Bradle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vice president to the Washington Post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revealing the Pentagon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703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rstein, Bradlee, &amp;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Carl Bernstein, Ben Bradlee, Bob Woodward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’s paranoia may have contributed to his participation in the burglary and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people were against him = “enemies list”- those considered threat to his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4724280" y="2095560"/>
            <a:ext cx="44197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Beg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, one of the burglars was an ex-CIA agent and member of 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glars paid from CRP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orders cover-up; false testimony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Felt giving info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82920" y="2664000"/>
            <a:ext cx="4179960" cy="1509480"/>
            <a:chOff x="2482920" y="2664000"/>
            <a:chExt cx="4179960" cy="1509480"/>
          </a:xfrm>
        </p:grpSpPr>
        <p:sp>
          <p:nvSpPr>
            <p:cNvPr id="126" name=""/>
            <p:cNvSpPr/>
            <p:nvPr/>
          </p:nvSpPr>
          <p:spPr>
            <a:xfrm>
              <a:off x="2482920" y="2664000"/>
              <a:ext cx="4179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82920" y="2664000"/>
              <a:ext cx="3098880" cy="1509480"/>
              <a:chOff x="2482920" y="2664000"/>
              <a:chExt cx="3098880" cy="15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2920" y="2664000"/>
                <a:ext cx="3098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82920" y="2664000"/>
                <a:ext cx="1525680" cy="15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jamesMcCord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395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illiam Mark Fe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d “deep throat” by Bernstein and Wood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I Agent Whistle-b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al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: Dec.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762120"/>
            <a:ext cx="2381400" cy="2638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Mark Felt - Deep Throat"/>
          <p:cNvPicPr/>
          <p:nvPr/>
        </p:nvPicPr>
        <p:blipFill>
          <a:blip r:embed="rId3"/>
          <a:stretch/>
        </p:blipFill>
        <p:spPr>
          <a:xfrm>
            <a:off x="3962520" y="3276720"/>
            <a:ext cx="2655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05-20T02:21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