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2.png" ContentType="image/png"/>
  <Override PartName="/ppt/media/image9.jpeg" ContentType="image/jpeg"/>
  <Override PartName="/ppt/media/image11.jpeg" ContentType="image/jpeg"/>
  <Override PartName="/ppt/media/image7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2EC2-9C8F-4D52-A2B8-09C85E31B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FF8F-5664-4342-AD6A-3DE09976B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F135-3712-4228-A832-2E0362E29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50AF-0C41-4B25-AF09-C5120D51A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879E5-92F4-4E73-BB13-228C835E2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AB278-1E64-48F8-B319-7401E076A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1C3A4-14F8-45D7-80B0-9630D4A1E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CB718-BE26-4509-BC74-087201A03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301BB-EB92-43E0-A7F5-BA5FC1EC6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391F6-DA6C-4F74-B711-D046D720A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A39F6-1A4D-4355-8C46-43049BA71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F2F6-F2D9-400B-BDB4-9FB33F80E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2DB4B-91DC-463B-A919-45D7832E4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3BED9-896C-45E3-AC63-316D0BA5B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C5D6E-07FE-49B7-AC7C-925EC4BA2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ECEDA-8E0D-4F3A-BB69-501FA2CA6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AB1F4-C70F-44C4-9A67-329F8354F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D3D0-0614-48E0-B752-30D59D90E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B6A9-FEEA-47B0-A103-74A7ED52C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9802-340C-4278-BD27-9C869DFBB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4B94-9D06-4C9D-A8A3-68FAC9189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1662-9D52-4061-93DE-709AC4977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A685-D2C9-49E9-B32E-B1489B5DE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A048-6BB0-4D7F-A140-131DBD4DB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F1611-1E7D-45C9-8E14-5968304FE72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EC32E-C245-4014-B8AD-63FDA614509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Carl_bernstein_2007.jpg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MarkFelt.jpg" TargetMode="External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Watergate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gins June 17, 1972 and ends with the resignation of the president Aug 9, 197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Nixon wins the election by a landslide – break-in unnecessary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3127" t="9376" r="0" b="6251"/>
          <a:stretch/>
        </p:blipFill>
        <p:spPr>
          <a:xfrm>
            <a:off x="990720" y="1600200"/>
            <a:ext cx="7543800" cy="492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The Cover-Up Unravel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hn Dean testif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4190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icated Pres. Nixon and the Attorney General John Mitch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exander Butterfield reveals that conversations in oval office recor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xon refuses to hand over tapes based o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utive privile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to protect national secu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butterfield" descr="Alexander Butterfield"/>
          <p:cNvPicPr/>
          <p:nvPr/>
        </p:nvPicPr>
        <p:blipFill>
          <a:blip r:embed="rId1"/>
          <a:stretch/>
        </p:blipFill>
        <p:spPr>
          <a:xfrm>
            <a:off x="5181480" y="4038480"/>
            <a:ext cx="3638520" cy="2562480"/>
          </a:xfrm>
          <a:prstGeom prst="rect">
            <a:avLst/>
          </a:prstGeom>
          <a:ln w="0">
            <a:noFill/>
          </a:ln>
        </p:spPr>
      </p:pic>
      <p:pic>
        <p:nvPicPr>
          <p:cNvPr id="142" name="john-dean" descr=""/>
          <p:cNvPicPr/>
          <p:nvPr/>
        </p:nvPicPr>
        <p:blipFill>
          <a:blip r:embed="rId2"/>
          <a:stretch/>
        </p:blipFill>
        <p:spPr>
          <a:xfrm>
            <a:off x="5334120" y="1447920"/>
            <a:ext cx="29718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“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Saturday Night Massacre”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v’t attorney appointed by president to handle Watergate cases (Oct. ’7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kes Nixon to court to release ta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xon wants him fired; no one wants to fire him so they (2) resign; eventually gets fired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turday Night Massac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xon’s reputation damag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ll ’73 V.P. Spiro Agnew resigns for taking bribes as gov. of MD.= Gerald Ford new V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bald C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al Prosecu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6129360" y="0"/>
            <a:ext cx="360" cy="360"/>
            <a:chOff x="6129360" y="0"/>
            <a:chExt cx="360" cy="360"/>
          </a:xfrm>
        </p:grpSpPr>
        <p:sp>
          <p:nvSpPr>
            <p:cNvPr id="147" name=""/>
            <p:cNvSpPr/>
            <p:nvPr/>
          </p:nvSpPr>
          <p:spPr>
            <a:xfrm>
              <a:off x="6129360" y="0"/>
              <a:ext cx="360" cy="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129360" y="0"/>
              <a:ext cx="360" cy="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728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9" name="a999archibaldcox_2050081722-23125" descr="Archibald Cox."/>
          <p:cNvPicPr/>
          <p:nvPr/>
        </p:nvPicPr>
        <p:blipFill>
          <a:blip r:embed="rId1"/>
          <a:stretch/>
        </p:blipFill>
        <p:spPr>
          <a:xfrm>
            <a:off x="5181480" y="1676520"/>
            <a:ext cx="312444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H. R. Haldema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ef of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ident’s right hand m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7152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7383600" y="0"/>
            <a:ext cx="1760400" cy="28465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H. R. Haldeman"/>
          <p:cNvPicPr/>
          <p:nvPr/>
        </p:nvPicPr>
        <p:blipFill>
          <a:blip r:embed="rId2"/>
          <a:stretch/>
        </p:blipFill>
        <p:spPr>
          <a:xfrm>
            <a:off x="4419720" y="2362320"/>
            <a:ext cx="2985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Impeachment Proceeding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pes finally turned over and show evidence that Nixon was involve in cover-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use Judiciary Committee vote t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mpeac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charge with a crime- the presi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xon resigns before impeac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rald Ford new president Aug 9, 197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fordportrait" descr=""/>
          <p:cNvPicPr/>
          <p:nvPr/>
        </p:nvPicPr>
        <p:blipFill>
          <a:blip r:embed="rId1"/>
          <a:stretch/>
        </p:blipFill>
        <p:spPr>
          <a:xfrm>
            <a:off x="5181480" y="1676520"/>
            <a:ext cx="3098880" cy="42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resident Nixon’s Last Da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File:Nixon-depart.png"/>
          <p:cNvPicPr/>
          <p:nvPr/>
        </p:nvPicPr>
        <p:blipFill>
          <a:blip r:embed="rId1"/>
          <a:stretch/>
        </p:blipFill>
        <p:spPr>
          <a:xfrm>
            <a:off x="2438280" y="1600200"/>
            <a:ext cx="4702320" cy="48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Watergate Impac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ardon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xon – cannot ever be prosecuted for cr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ericans distrust of government and politicians continue to dee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say our judicial system works because no one is above the law, to include the presi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www.washingtonpost.com/wp-dyn/content/article/2007/06/13/AR2007061301867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Woodward and Bernstein"/>
          <p:cNvPicPr/>
          <p:nvPr/>
        </p:nvPicPr>
        <p:blipFill>
          <a:blip r:embed="rId1"/>
          <a:stretch/>
        </p:blipFill>
        <p:spPr>
          <a:xfrm>
            <a:off x="1295280" y="1752480"/>
            <a:ext cx="6858000" cy="487224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0033"/>
                </a:solidFill>
                <a:latin typeface="Times New Roman"/>
              </a:rPr>
              <a:t>Washington Post</a:t>
            </a:r>
            <a:r>
              <a:rPr b="0" lang="en-US" sz="2400" spc="-1" strike="noStrike">
                <a:solidFill>
                  <a:srgbClr val="330033"/>
                </a:solidFill>
                <a:latin typeface="Times New Roman"/>
              </a:rPr>
              <a:t> reporters who followed the court case of the burglars and realized there may be a White House connection when one of the burglars reported being a retired CIA agent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arl Bernstei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7152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52880" y="1600200"/>
            <a:ext cx="3487680" cy="44956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990720" y="1600200"/>
            <a:ext cx="29574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Bob Woodward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7152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09480" y="1523880"/>
            <a:ext cx="3376800" cy="47768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Bob Woodward on &quot;Meet The Press&quot;"/>
          <p:cNvPicPr/>
          <p:nvPr/>
        </p:nvPicPr>
        <p:blipFill>
          <a:blip r:embed="rId2"/>
          <a:stretch/>
        </p:blipFill>
        <p:spPr>
          <a:xfrm>
            <a:off x="4997520" y="1676520"/>
            <a:ext cx="344304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Ben Bradle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es as vice president to the Washington Post to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onsible for revealing the Pentagon Pap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7152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410080" y="1676520"/>
            <a:ext cx="27036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Berstein, Bradlee, &amp; Woodward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Carl Bernstein, Ben Bradlee, Bob Woodward"/>
          <p:cNvPicPr/>
          <p:nvPr/>
        </p:nvPicPr>
        <p:blipFill>
          <a:blip r:embed="rId1"/>
          <a:stretch/>
        </p:blipFill>
        <p:spPr>
          <a:xfrm>
            <a:off x="1143000" y="1676520"/>
            <a:ext cx="6858000" cy="45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102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xon’s paranoia may have contributed to his participation in the burglary and cover-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lt people were against him = “enemies list”- those considered threat to his presid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6250" t="6251" r="0" b="6251"/>
          <a:stretch/>
        </p:blipFill>
        <p:spPr>
          <a:xfrm>
            <a:off x="4724280" y="2095560"/>
            <a:ext cx="4419720" cy="30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The Cover-Up Begin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mes McCord, one of the burglars was an ex-CIA agent and member of CR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rglars paid from CRP f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xon orders cover-up; false testimony gi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 Felt giving info t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o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por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mes McC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2482920" y="2664000"/>
            <a:ext cx="4179960" cy="1509480"/>
            <a:chOff x="2482920" y="2664000"/>
            <a:chExt cx="4179960" cy="1509480"/>
          </a:xfrm>
        </p:grpSpPr>
        <p:sp>
          <p:nvSpPr>
            <p:cNvPr id="126" name=""/>
            <p:cNvSpPr/>
            <p:nvPr/>
          </p:nvSpPr>
          <p:spPr>
            <a:xfrm>
              <a:off x="2482920" y="2664000"/>
              <a:ext cx="41799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7" name=""/>
            <p:cNvGrpSpPr/>
            <p:nvPr/>
          </p:nvGrpSpPr>
          <p:grpSpPr>
            <a:xfrm>
              <a:off x="2482920" y="2664000"/>
              <a:ext cx="3098880" cy="1509480"/>
              <a:chOff x="2482920" y="2664000"/>
              <a:chExt cx="3098880" cy="1509480"/>
            </a:xfrm>
          </p:grpSpPr>
          <p:sp>
            <p:nvSpPr>
              <p:cNvPr id="128" name=""/>
              <p:cNvSpPr/>
              <p:nvPr/>
            </p:nvSpPr>
            <p:spPr>
              <a:xfrm>
                <a:off x="2482920" y="2664000"/>
                <a:ext cx="309888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2482920" y="2664000"/>
                <a:ext cx="1525680" cy="150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n-US" sz="9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                          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30" name="jamesMcCord" descr=""/>
          <p:cNvPicPr/>
          <p:nvPr/>
        </p:nvPicPr>
        <p:blipFill>
          <a:blip r:embed="rId1"/>
          <a:stretch/>
        </p:blipFill>
        <p:spPr>
          <a:xfrm>
            <a:off x="5715000" y="1676520"/>
            <a:ext cx="239544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William Mark Fel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bbed “deep throat” by Bernstein and Woodw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BI Agent Whistle-blow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ealed in 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D: Dec.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87152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00800" y="762120"/>
            <a:ext cx="2381400" cy="263844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Mark Felt - Deep Throat"/>
          <p:cNvPicPr/>
          <p:nvPr/>
        </p:nvPicPr>
        <p:blipFill>
          <a:blip r:embed="rId3"/>
          <a:stretch/>
        </p:blipFill>
        <p:spPr>
          <a:xfrm>
            <a:off x="3962520" y="3276720"/>
            <a:ext cx="265572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</cp:lastModifiedBy>
  <dcterms:modified xsi:type="dcterms:W3CDTF">2010-05-20T02:21:25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