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398-379E-4700-968C-52CDC829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AC4-ED1A-4901-910E-5FF6D072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E1F-8790-4E3C-A1D2-4B0F632D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3D2-DABE-4CA5-97EC-13657885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3D59-5754-4E8A-9161-4E943649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998F-477C-43F3-AB6A-EC8427C0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28B2-ADC3-4F98-9857-34864898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4B3C-4906-4126-B8B8-62CBCB48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1CFA-76B1-44EC-8B2E-32267A3F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1397-50F2-487A-9539-555950BD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A65C-A429-4A65-BC42-1B9531DB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5D4-50A1-4360-BA74-DB488DBA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B4A4-85FC-4770-B770-341B449C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BA32-86A4-47F7-BBF2-299483B3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50DB-3D20-4E64-9801-AC418E73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E0DF-5D4C-435B-A4FC-A1394113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C09D-C4D5-40F8-846D-E96AAD75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AA2-BD2F-44A6-8CFA-9CB65AB0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6C8-8B53-46BE-98B5-24D3CFD7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131-99DA-492F-B16E-0B365B2D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539-48D7-4869-A308-089EA5DD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646-D03E-4B62-ABD0-B4904A19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59B-12AA-40C7-9DB6-2AC7E230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7B1-8A86-45B2-B242-C47E201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4CE0-7FAB-4F51-87EB-1892D26BA2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9D16-474F-40CD-B5AD-0CCD597CBA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arl_bernstein_2007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rkFelt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atergat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s June 17, 1972 and ends with the resignation of the president Aug 9, 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ixon wins the election by a landslide – break-in unnecessary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3127" t="9376" r="0" b="6251"/>
          <a:stretch/>
        </p:blipFill>
        <p:spPr>
          <a:xfrm>
            <a:off x="990720" y="1600200"/>
            <a:ext cx="75438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over-Up Unrav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Dean testif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ed Pres. Nixon and the Attorney General John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ander Butterfield reveals that conversations in oval office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 refuses to hand over tapes based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utive privil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 protect national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butterfield" descr="Alexander Butterfield"/>
          <p:cNvPicPr/>
          <p:nvPr/>
        </p:nvPicPr>
        <p:blipFill>
          <a:blip r:embed="rId1"/>
          <a:stretch/>
        </p:blipFill>
        <p:spPr>
          <a:xfrm>
            <a:off x="5181480" y="4038480"/>
            <a:ext cx="3638520" cy="2562480"/>
          </a:xfrm>
          <a:prstGeom prst="rect">
            <a:avLst/>
          </a:prstGeom>
          <a:ln w="0">
            <a:noFill/>
          </a:ln>
        </p:spPr>
      </p:pic>
      <p:pic>
        <p:nvPicPr>
          <p:cNvPr id="142" name="john-dean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aturday Night Massacre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’t attorney appointed by president to handle Watergate cases (Oct. ’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Nixon to court to release 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 wants him fired; no one wants to fire him so they (2) resign; eventually gets fire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day Night Massac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’s reputation dam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 ’73 V.P. Spiro Agnew resigns for taking bribes as gov. of MD.= Gerald Ford new 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bald C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ros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129360" y="0"/>
            <a:ext cx="360" cy="360"/>
            <a:chOff x="6129360" y="0"/>
            <a:chExt cx="360" cy="360"/>
          </a:xfrm>
        </p:grpSpPr>
        <p:sp>
          <p:nvSpPr>
            <p:cNvPr id="147" name=""/>
            <p:cNvSpPr/>
            <p:nvPr/>
          </p:nvSpPr>
          <p:spPr>
            <a:xfrm>
              <a:off x="6129360" y="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29360" y="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28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a999archibaldcox_2050081722-23125" descr="Archibald Cox."/>
          <p:cNvPicPr/>
          <p:nvPr/>
        </p:nvPicPr>
        <p:blipFill>
          <a:blip r:embed="rId1"/>
          <a:stretch/>
        </p:blipFill>
        <p:spPr>
          <a:xfrm>
            <a:off x="5181480" y="16765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. R. Haldem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of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’s right hand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3600" y="0"/>
            <a:ext cx="1760400" cy="2846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H. R. Haldeman"/>
          <p:cNvPicPr/>
          <p:nvPr/>
        </p:nvPicPr>
        <p:blipFill>
          <a:blip r:embed="rId2"/>
          <a:stretch/>
        </p:blipFill>
        <p:spPr>
          <a:xfrm>
            <a:off x="4419720" y="2362320"/>
            <a:ext cx="298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eachment Procee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s finally turned over and show evidence that Nixon was involve in cov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Judiciary Committee vot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harge with a crime-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 resigns before imp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Ford new president Aug 9,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fordportrait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988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esident Nixon’s Last Da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File:Nixon-depart.png"/>
          <p:cNvPicPr/>
          <p:nvPr/>
        </p:nvPicPr>
        <p:blipFill>
          <a:blip r:embed="rId1"/>
          <a:stretch/>
        </p:blipFill>
        <p:spPr>
          <a:xfrm>
            <a:off x="2438280" y="1600200"/>
            <a:ext cx="47023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tergate Impa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d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xon – cannot ever be prosecuted for cr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s distrust of government and politicians continue to de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y our judicial system works because no one is above the law, to include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washingtonpost.com/wp-dyn/content/article/2007/06/13/AR2007061301867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Woodward and Bernstein"/>
          <p:cNvPicPr/>
          <p:nvPr/>
        </p:nvPicPr>
        <p:blipFill>
          <a:blip r:embed="rId1"/>
          <a:stretch/>
        </p:blipFill>
        <p:spPr>
          <a:xfrm>
            <a:off x="1295280" y="1752480"/>
            <a:ext cx="6858000" cy="4872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33"/>
                </a:solidFill>
                <a:latin typeface="Times New Roman"/>
              </a:rPr>
              <a:t>Washington Post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reporters who followed the court case of the burglars and realized there may be a White House connection when one of the burglars reported being a retired CIA ag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rl Bernste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600200"/>
            <a:ext cx="3487680" cy="4495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600200"/>
            <a:ext cx="2957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ob Woodw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76800" cy="4776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Bob Woodward on &quot;Meet The Press&quot;"/>
          <p:cNvPicPr/>
          <p:nvPr/>
        </p:nvPicPr>
        <p:blipFill>
          <a:blip r:embed="rId2"/>
          <a:stretch/>
        </p:blipFill>
        <p:spPr>
          <a:xfrm>
            <a:off x="4997520" y="1676520"/>
            <a:ext cx="344304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n Bradle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s as vice president to the Washington Post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revealing the Pentagon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2703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rstein, Bradlee, &amp; Woodw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Carl Bernstein, Ben Bradlee, Bob Woodward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’s paranoia may have contributed to his participation in the burglary and cov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t people were against him = “enemies list”- those considered threat to his presi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50" t="6251" r="0" b="6251"/>
          <a:stretch/>
        </p:blipFill>
        <p:spPr>
          <a:xfrm>
            <a:off x="4724280" y="2095560"/>
            <a:ext cx="44197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over-Up Begi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cCord, one of the burglars was an ex-CIA agent and member of C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glars paid from CRP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 orders cover-up; false testimony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Felt giving info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82920" y="2664000"/>
            <a:ext cx="4179960" cy="1509480"/>
            <a:chOff x="2482920" y="2664000"/>
            <a:chExt cx="4179960" cy="1509480"/>
          </a:xfrm>
        </p:grpSpPr>
        <p:sp>
          <p:nvSpPr>
            <p:cNvPr id="126" name=""/>
            <p:cNvSpPr/>
            <p:nvPr/>
          </p:nvSpPr>
          <p:spPr>
            <a:xfrm>
              <a:off x="2482920" y="2664000"/>
              <a:ext cx="4179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82920" y="2664000"/>
              <a:ext cx="3098880" cy="1509480"/>
              <a:chOff x="2482920" y="2664000"/>
              <a:chExt cx="3098880" cy="1509480"/>
            </a:xfrm>
          </p:grpSpPr>
          <p:sp>
            <p:nvSpPr>
              <p:cNvPr id="128" name=""/>
              <p:cNvSpPr/>
              <p:nvPr/>
            </p:nvSpPr>
            <p:spPr>
              <a:xfrm>
                <a:off x="2482920" y="2664000"/>
                <a:ext cx="3098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82920" y="2664000"/>
                <a:ext cx="1525680" cy="15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jamesMcCord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2395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illiam Mark Fel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d “deep throat” by Bernstein and Wood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I Agent Whistle-bl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al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: Dec.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762120"/>
            <a:ext cx="2381400" cy="2638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Mark Felt - Deep Throat"/>
          <p:cNvPicPr/>
          <p:nvPr/>
        </p:nvPicPr>
        <p:blipFill>
          <a:blip r:embed="rId3"/>
          <a:stretch/>
        </p:blipFill>
        <p:spPr>
          <a:xfrm>
            <a:off x="3962520" y="3276720"/>
            <a:ext cx="2655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0-05-20T02:21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