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E10-7291-4D54-82C3-8D91BF63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BF0-B2DF-47C2-B7F4-6271AE16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A4E-69A4-4D7F-A5FD-19D14DDF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F48-C511-4E39-B099-3D81B8A0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85A7-E52F-4A77-A4FC-3549E820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9894-6F30-4934-B4D9-0694899B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43AC-6210-43EE-8159-C5F793E5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782B-AFA1-4541-A5DB-107F9A76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04DB-7315-4399-9026-684925FD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B56A-7D7E-41EE-8166-289C2468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62E2-71CF-4FE3-9036-C336F54B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E17-557D-4F41-9748-7E4CE7D9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B636-2B7F-4B07-B84E-48133114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2F56-C2D7-4666-82B7-E2810D94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0A01-9DA2-418B-B978-EB177A3B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7614-4117-492D-9566-7E3F1596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503C-54F4-4B5E-9FCF-A477F815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308A-BB8E-4DE9-9038-320258C1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737-7700-43B6-A6F5-2B4141CA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D54-980D-45CA-ADB0-35618D41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317-9610-4325-B2F1-D177700A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4DF-6438-4BD7-BC0E-A4F0C45D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6B9-6784-4925-9BC5-38D3D420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22F-9EB2-4483-A67A-9F5E7E00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9273-9491-43A2-80E4-31925D78B6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04A9-4B0C-4277-BE02-BDF92E6CF3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H_Humphrey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en.wikipedia.org/wiki/Image:Nixon_30-0316a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ixon_30-0316a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residentialtimeline.org/html/record.php?id=307&amp;noNav&amp;noMeta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21.1:  The Nixon Administratio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ling to Middle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.  Nixon and Vietnamiz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lent majo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mainstream Americans who quietly supported the president’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owing for the Vietnamese to take a more active role by withdrawing US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ace with honor… “save face”; wanted a say at negotiation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ly continues to bomb supply routes in N. Vietnam military bases, Laos and Cambo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esidential Election 196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bert Humphrey 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M. Nixon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Hubert Humphre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1905120"/>
            <a:ext cx="2908440" cy="3600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Richard Nix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1371600"/>
            <a:ext cx="374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outhern Suppo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. Strom Thurmond (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ern Strategy – slow desegregation in exchange for continue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-and-ord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med at antiwar prote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reme Court criticized for expanding rights of the acc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rvative ag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Richard Nix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371600"/>
            <a:ext cx="3741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ew Federalis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he size of the federal government and give state and local gov’t mor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nue-sharing – federal funds that the states will decide how to uti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ntended consequenc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ed to overturn Great Society programs: HUD, OEO, Job Cor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 Getting back at the Democratic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onstitu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amily Assistance Pl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amping Aid to Families with Dependent Children (AF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d to Family Assistanc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1,600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ld be suppleme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ized by both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ixon, China &amp; the S.U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10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tnamization = Nixon Doctrine; all 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y of détente – easing cold war 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pened by wars in Chile and Ang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. 1972 Nixon visits China = bette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s Leonid Brezhnev @ Mos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egic Arms Limitation Treaty (SALT 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Photograph of President and Mrs. Richard Nixon Touring the Great Wall of Ch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676520"/>
            <a:ext cx="3686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05-18T12:51:4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