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0E2-C2D8-40BD-A0AC-AD50A20C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67F7-3E3A-4EC4-A817-C987AE9A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1188-52C2-48ED-94EB-C2B405F0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776-8246-46F1-899F-67152247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AD6B-B52E-473F-A5BB-B3ACC28F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7D35-5AFA-48C3-B68A-F70760FD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5D5B-ACC5-4B9C-8FD9-BB4DBA60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7A5E-2B08-49A6-A7B8-DAED21C1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7A4C-5A3A-469F-8AF8-93A34729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CB51-1A0C-4D4B-BECF-0B08DA4C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F21D-F8B4-4D21-A149-B220BD94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315-8C7E-4925-A40E-00F53607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808E-1C72-44E2-827A-94A3B3CA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7C59-3103-4A72-BE49-55ADFBC4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2E0A-5277-40F8-B469-50DC87A6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DF93-79F0-4E1A-8FBB-0E6F2B26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B1A6-6CEE-479F-A8E9-BEBC7A2A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A749-3C57-46CB-9207-866AFDB6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79E-7769-4091-BBA2-602191EC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EE8-9546-441C-8A27-3F14B54C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37E-E4F1-47AA-913C-79E48DAA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735F-75C5-4E37-A1EB-B1639C73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7C8-BD73-4934-BFAE-45A0B211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67EF-2092-402E-A293-B6EAA9C0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30EF-2A03-4B80-A296-1FE0565AC4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F037-A3C7-40FB-B662-072EE9653D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H_Humphrey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en.wikipedia.org/wiki/Image:Nixon_30-0316a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ixon_30-0316a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residentialtimeline.org/html/record.php?id=307&amp;noNav&amp;noMeta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21.1:  The Nixon Administratio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ling to Middle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.  Nixon and Vietnamiz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lent majo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mainstream Americans who quietly supported the president’s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owing for the Vietnamese to take a more active role by withdrawing US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e with honor… “save face”; wanted a say at negotiation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ly continues to bomb supply routes in N. Vietnam military bases, Laos and Cambo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esidential Election 1968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bert Humphrey 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M. Nixon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Hubert Humphr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1905120"/>
            <a:ext cx="2908440" cy="3600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Richard Nix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1371600"/>
            <a:ext cx="3741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thern Suppo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. Strom Thurmond (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ern Strategy – slow desegregation in exchange for continued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-and-ord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med at antiwar prote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reme Court criticized for expanding rights of the acc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ervative 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Richard Nix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371600"/>
            <a:ext cx="3741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ew Federalis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he size of the federal government and give state and local gov’t mor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nue-sharing – federal funds that the states will decide how to uti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ntended consequen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d to overturn Great Society programs: HUD, OEO, Job Cor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Getting back at the Democratic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constitu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amily Assistance Pl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amping Aid to Families with Dependent Children (AF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d to Family Assistanc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1,600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ld be suppleme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ized by both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ixon, China &amp; the S.U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10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tnamization = Nixon Doctrine; all 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of détente – easing cold war 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mpened by wars in Chile and Ang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. 1972 Nixon visits China = better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Leonid Brezhnev @ Mosc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gic Arms Limitation Treaty (SALT 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Photograph of President and Mrs. Richard Nixon Touring the Great Wall of Ch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676520"/>
            <a:ext cx="3686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05-18T12:51:4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