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ECA-67D4-4AF1-B6A7-BEFE3438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DFB-861E-43C6-83F7-B49F2915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A98-252A-49B6-B486-7AAA056C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83DA-E988-49A3-89C7-9B7E1BED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6AAE-B821-4303-9EB4-0D80CF9F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D61-1B6F-42EB-9D20-13ED4435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D025-AA0C-4546-BAA2-95EEB1A9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8A19-1688-422D-BF70-11F8384A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4A3F-E45B-47B7-A710-D2A02E23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B1AD-480E-4BA6-AF8F-48E47C7C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184F-08D3-49B1-9025-2ED24F5B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181-5893-4D8C-8400-6CE8CD3B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FE1C-E775-4147-B1C9-822EA74A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76A5-9916-42D9-8D78-861C3520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BF0B-5DB2-41C8-AFB3-A408F6EA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69AE-3722-4FF2-B46F-2789CCE3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ED21-1F40-4AF8-A1F2-52D0BDF4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9A3-65F4-45F6-BA95-951CF36A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6DB-B6C7-4794-A1B2-EDF6AC5F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88A-7436-4D38-97AC-D82DD32A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584-B545-43A9-A8CD-A7DEC0D0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C76-D030-4AD6-B422-D9BA4EE0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1D3-5485-4A17-ABBF-80E8461C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517-7253-49AB-A030-EBECEFDE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8BED-7010-47C3-AB25-DC18ED17B0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5C00-7A71-4838-BBFB-F46AAC12CC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_Humphrey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Image:Nixon_30-0316a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ixon_30-0316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esidentialtimeline.org/html/record.php?id=307&amp;noNav&amp;noMet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21.1:  The Nixon Administra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ing to Middle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.  Nixon and Vietnamiz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lent maj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mainstream Americans who quietly supported the president’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owing for the Vietnamese to take a more active role by withdrawing U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with honor… “save face”; wanted a say at negotiati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ly continues to bomb supply routes in N. Vietnam military bases, Laos and Cambo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ial Election 196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ert Humphrey 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M. Nixon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Hubert Humphr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90512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ichard Nix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ern Sup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. Strom Thurmond (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ern Strategy – slow desegregation in exchange for continue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-and-or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ed at antiwar prote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reme Court criticized for expanding rights of the ac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ve 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Richard Nix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w Federalis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size of the federal government and give state and local gov’t mor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-sharing – federal funds that the states will decide how to uti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ntended consequ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overturn Great Society programs: HUD, OEO, Job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Getting back at the Democratic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onstitu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mily Assistance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amping Aid to Families with Dependent Children (AF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to Family Assistanc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1,600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be supple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ized by both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, China &amp; the S.U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tnamization = Nixon Doctrine; all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of détente – easing cold war 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ed by wars in Chile and Ang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. 1972 Nixon visits China = bette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Leonid Brezhnev @ Mos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Arms Limitation Treaty (SALT 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Photograph of President and Mrs. Richard Nixon Touring the Great Wall of Ch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76520"/>
            <a:ext cx="36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05-18T12:51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