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3523-C1B9-4729-BC56-AC343C86D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61AE-38EA-4E47-B1DA-1C43F7EF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FA0E-33A6-4F87-9336-BC60777B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4B35-69AC-4FB1-B65B-9A97101A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C795-DA54-4E1A-A2E4-FF59A92D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0E82-E91B-42A0-A96C-4A87BD62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5CF2-99AB-4601-89C9-A64F1CC2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4D39-4881-4976-BCA2-AB71D46C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EE0A-84F2-43E6-9857-7B1C9D7D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6BBB-41F7-42FD-A53C-7E699D36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81B0-81A9-485D-9713-4CBD0BD9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D84F-F730-4408-97CE-CAC1F4CA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CD0F-6728-4440-9AAD-FFCA4CA5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1363-A6B6-4133-B9D7-FF506DC7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AD3A-9DE2-4F80-8BC7-86CB41B6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F982-4491-4D1D-A756-09E3EA3B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03ED-BC84-4602-99E0-97C565D4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DB2C-0B63-4CA8-AE38-A751E132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C950-F0C0-4181-94AF-D52A2181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0AA0-99FF-4230-A076-3738B005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4160-27E9-4DA9-8FC0-7A569050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450A-ED75-4404-B694-2D56F423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F26E-E783-4F2A-AD4C-45413062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7055-0400-4333-9843-66ADD836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A101-8140-499A-9DD4-E321BEE652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9163-BA72-48D0-B60E-6009F80AEA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H_Humphrey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en.wikipedia.org/wiki/Image:Nixon_30-0316a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Nixon_30-0316a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residentialtimeline.org/html/record.php?id=307&amp;noNav&amp;noMeta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21.1:  The Nixon Administration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ling to Middle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.  Nixon and Vietnamiz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lent majo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mainstream Americans who quietly supported the president’s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owing for the Vietnamese to take a more active role by withdrawing US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ce with honor… “save face”; wanted a say at negotiation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ly continues to bomb supply routes in N. Vietnam military bases, Laos and Cambo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esidential Election 1968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bert Humphrey 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M. Nixon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Hubert Humphre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1905120"/>
            <a:ext cx="2908440" cy="3600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Richard Nix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1371600"/>
            <a:ext cx="3741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uthern Suppo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. Strom Thurmond (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ern Strategy – slow desegregation in exchange for continued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-and-ord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imed at antiwar prote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reme Court criticized for expanding rights of the acc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ervative 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Richard Nix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371600"/>
            <a:ext cx="3741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ew Federalis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the size of the federal government and give state and local gov’t mor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nue-sharing – federal funds that the states will decide how to util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ntended consequen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ed to overturn Great Society programs: HUD, OEO, Job Cor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Getting back at the Democratic Co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u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constitut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amily Assistance Pl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amping Aid to Families with Dependent Children (AF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d to Family Assistanc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1,600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ld be supplemen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ized by both 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ixon, China &amp; the S.U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10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tnamization = Nixon Doctrine; all al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 of détente – easing cold war 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mpened by wars in Chile and Ang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. 1972 Nixon visits China = better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s Leonid Brezhnev @ Mosc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egic Arms Limitation Treaty (SALT 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Photograph of President and Mrs. Richard Nixon Touring the Great Wall of Chi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676520"/>
            <a:ext cx="3686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0-05-18T12:51:4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